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8.png" ContentType="image/png"/>
  <Override PartName="/ppt/media/image30.png" ContentType="image/png"/>
  <Override PartName="/ppt/media/image26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1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CAE-193D-483D-BD03-C1B19F24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928-0082-431B-9CDD-C9C52D44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78D-4554-4CB8-A17A-B0439BC1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35F-C35D-4F28-B787-63564096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04F-C983-4833-8C77-8985032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093-39A8-40CB-9618-65C5B57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FF6-E4C4-4273-A686-821BAC8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30B-D8CB-4D86-A2CF-0C4A772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4BF-04C4-429D-8229-20FA3979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A6B-84B6-4EF6-B434-882134E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6E3-9FBA-45D4-A93D-8760066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94B-B897-4541-97E2-6FD973B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3B3-2544-4D67-96C6-1DC7B4BF9592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slide" Target="slide26.xml"/><Relationship Id="rId7" Type="http://schemas.openxmlformats.org/officeDocument/2006/relationships/image" Target="../media/image26.png"/><Relationship Id="rId8" Type="http://schemas.openxmlformats.org/officeDocument/2006/relationships/slide" Target="slide25.xml"/><Relationship Id="rId9" Type="http://schemas.openxmlformats.org/officeDocument/2006/relationships/image" Target="../media/image27.png"/><Relationship Id="rId10" Type="http://schemas.openxmlformats.org/officeDocument/2006/relationships/slide" Target="slide27.xml"/><Relationship Id="rId11" Type="http://schemas.openxmlformats.org/officeDocument/2006/relationships/image" Target="../media/image28.png"/><Relationship Id="rId12" Type="http://schemas.openxmlformats.org/officeDocument/2006/relationships/slide" Target="slide28.xml"/><Relationship Id="rId13" Type="http://schemas.openxmlformats.org/officeDocument/2006/relationships/image" Target="../media/image29.png"/><Relationship Id="rId14" Type="http://schemas.openxmlformats.org/officeDocument/2006/relationships/slide" Target="slide29.xml"/><Relationship Id="rId15" Type="http://schemas.openxmlformats.org/officeDocument/2006/relationships/image" Target="../media/image30.png"/><Relationship Id="rId16" Type="http://schemas.openxmlformats.org/officeDocument/2006/relationships/slide" Target="slide30.xml"/><Relationship Id="rId17" Type="http://schemas.openxmlformats.org/officeDocument/2006/relationships/image" Target="../media/image30.png"/><Relationship Id="rId18" Type="http://schemas.openxmlformats.org/officeDocument/2006/relationships/slide" Target="slide31.xml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" Target="slide24.xm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" Target="slide24.xml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image" Target="../media/image50.png"/><Relationship Id="rId12" Type="http://schemas.openxmlformats.org/officeDocument/2006/relationships/slide" Target="slide24.xml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3.png"/><Relationship Id="rId10" Type="http://schemas.openxmlformats.org/officeDocument/2006/relationships/image" Target="../media/image53.png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image" Target="../media/image53.png"/><Relationship Id="rId14" Type="http://schemas.openxmlformats.org/officeDocument/2006/relationships/slide" Target="slide24.xm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14.xml"/><Relationship Id="rId6" Type="http://schemas.openxmlformats.org/officeDocument/2006/relationships/slide" Target="slide7.xml"/><Relationship Id="rId7" Type="http://schemas.openxmlformats.org/officeDocument/2006/relationships/slide" Target="slide5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32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slide" Target="slide24.xml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61.pn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4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908000" y="3573360"/>
            <a:ext cx="6264360" cy="1728720"/>
          </a:xfrm>
          <a:prstGeom prst="rect">
            <a:avLst/>
          </a:prstGeom>
          <a:gradFill rotWithShape="0">
            <a:gsLst>
              <a:gs pos="0">
                <a:srgbClr val="993300">
                  <a:alpha val="60392"/>
                </a:srgbClr>
              </a:gs>
              <a:gs pos="100000">
                <a:srgbClr val="0000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rograma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Seguimiento curricul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177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"/>
          <p:cNvSpPr/>
          <p:nvPr/>
        </p:nvSpPr>
        <p:spPr>
          <a:xfrm>
            <a:off x="2987640" y="2567160"/>
            <a:ext cx="331308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Compet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12536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e que e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habl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08000" y="227808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mplica necesar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un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telectual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276720" y="981000"/>
            <a:ext cx="280800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a relacionada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aberes (teorías, model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xiomas, técnicas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6300720" y="227808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 vincula con el s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Hacer (formaliz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tex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6300720" y="379080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ferida a un 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276720" y="5157720"/>
            <a:ext cx="280800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taca un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(actuación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108000" y="379080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lude a asp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ctitudi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axi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10"/>
          <p:cNvCxnSpPr>
            <a:stCxn id="181" idx="0"/>
            <a:endCxn id="182" idx="1"/>
          </p:cNvCxnSpPr>
          <p:nvPr/>
        </p:nvCxnSpPr>
        <p:spPr>
          <a:xfrm flipH="1" flipV="1" rot="5400000">
            <a:off x="2016000" y="1017000"/>
            <a:ext cx="757800" cy="176472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8" name="AutoShape 11"/>
          <p:cNvCxnSpPr>
            <a:stCxn id="182" idx="3"/>
            <a:endCxn id="183" idx="0"/>
          </p:cNvCxnSpPr>
          <p:nvPr/>
        </p:nvCxnSpPr>
        <p:spPr>
          <a:xfrm>
            <a:off x="6084360" y="1520640"/>
            <a:ext cx="1621800" cy="7578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9" name="AutoShape 12"/>
          <p:cNvCxnSpPr>
            <a:stCxn id="183" idx="2"/>
            <a:endCxn id="184" idx="0"/>
          </p:cNvCxnSpPr>
          <p:nvPr/>
        </p:nvCxnSpPr>
        <p:spPr>
          <a:xfrm flipH="1">
            <a:off x="7705080" y="3358800"/>
            <a:ext cx="1080" cy="432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0" name="AutoShape 13"/>
          <p:cNvCxnSpPr>
            <a:stCxn id="184" idx="2"/>
            <a:endCxn id="185" idx="3"/>
          </p:cNvCxnSpPr>
          <p:nvPr/>
        </p:nvCxnSpPr>
        <p:spPr>
          <a:xfrm rot="5400000">
            <a:off x="6480720" y="4474800"/>
            <a:ext cx="828000" cy="16218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1" name="AutoShape 14"/>
          <p:cNvCxnSpPr>
            <a:stCxn id="185" idx="1"/>
            <a:endCxn id="186" idx="2"/>
          </p:cNvCxnSpPr>
          <p:nvPr/>
        </p:nvCxnSpPr>
        <p:spPr>
          <a:xfrm rot="10800000">
            <a:off x="1512000" y="4871160"/>
            <a:ext cx="1764720" cy="828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2" name="AutoShape 15"/>
          <p:cNvCxnSpPr>
            <a:stCxn id="186" idx="0"/>
            <a:endCxn id="181" idx="2"/>
          </p:cNvCxnSpPr>
          <p:nvPr/>
        </p:nvCxnSpPr>
        <p:spPr>
          <a:xfrm flipV="1">
            <a:off x="1512360" y="3358440"/>
            <a:ext cx="1080" cy="432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197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1403280" y="1052640"/>
            <a:ext cx="61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Formación y desarrollo de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724360" y="508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gener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licar   estrateg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611280" y="184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obtene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struir 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5724360" y="184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organ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aplicar 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611280" y="508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analiz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solver  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2933640" y="2870280"/>
            <a:ext cx="3241800" cy="187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Procesos psic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básicos (percep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atención, memor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motivación, emo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 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6"/>
          <p:cNvCxnSpPr>
            <a:stCxn id="201" idx="3"/>
            <a:endCxn id="202" idx="1"/>
          </p:cNvCxnSpPr>
          <p:nvPr/>
        </p:nvCxnSpPr>
        <p:spPr>
          <a:xfrm>
            <a:off x="3419640" y="2204640"/>
            <a:ext cx="2305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6" name="AutoShape 17"/>
          <p:cNvCxnSpPr>
            <a:stCxn id="202" idx="2"/>
            <a:endCxn id="200" idx="0"/>
          </p:cNvCxnSpPr>
          <p:nvPr/>
        </p:nvCxnSpPr>
        <p:spPr>
          <a:xfrm flipH="1">
            <a:off x="7128720" y="2565360"/>
            <a:ext cx="1080" cy="25200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7" name="AutoShape 18"/>
          <p:cNvCxnSpPr>
            <a:stCxn id="200" idx="1"/>
            <a:endCxn id="203" idx="3"/>
          </p:cNvCxnSpPr>
          <p:nvPr/>
        </p:nvCxnSpPr>
        <p:spPr>
          <a:xfrm flipH="1" flipV="1">
            <a:off x="3419280" y="5444280"/>
            <a:ext cx="2305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8" name="AutoShape 19"/>
          <p:cNvCxnSpPr>
            <a:stCxn id="203" idx="0"/>
            <a:endCxn id="201" idx="2"/>
          </p:cNvCxnSpPr>
          <p:nvPr/>
        </p:nvCxnSpPr>
        <p:spPr>
          <a:xfrm flipV="1">
            <a:off x="2015640" y="2565000"/>
            <a:ext cx="1080" cy="2520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9" name="AutoShape 20"/>
          <p:cNvCxnSpPr>
            <a:stCxn id="204" idx="0"/>
            <a:endCxn id="202" idx="2"/>
          </p:cNvCxnSpPr>
          <p:nvPr/>
        </p:nvCxnSpPr>
        <p:spPr>
          <a:xfrm flipH="1" flipV="1" rot="5400000">
            <a:off x="5688360" y="1429560"/>
            <a:ext cx="305640" cy="257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0" name="AutoShape 21"/>
          <p:cNvCxnSpPr>
            <a:stCxn id="204" idx="6"/>
            <a:endCxn id="200" idx="0"/>
          </p:cNvCxnSpPr>
          <p:nvPr/>
        </p:nvCxnSpPr>
        <p:spPr>
          <a:xfrm>
            <a:off x="6175440" y="3806640"/>
            <a:ext cx="954720" cy="1278360"/>
          </a:xfrm>
          <a:prstGeom prst="curvedConnector2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1" name="AutoShape 22"/>
          <p:cNvCxnSpPr>
            <a:stCxn id="204" idx="4"/>
            <a:endCxn id="203" idx="0"/>
          </p:cNvCxnSpPr>
          <p:nvPr/>
        </p:nvCxnSpPr>
        <p:spPr>
          <a:xfrm rot="5400000">
            <a:off x="3113640" y="3644640"/>
            <a:ext cx="342000" cy="253908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2" name="AutoShape 23"/>
          <p:cNvCxnSpPr>
            <a:stCxn id="204" idx="2"/>
            <a:endCxn id="201" idx="2"/>
          </p:cNvCxnSpPr>
          <p:nvPr/>
        </p:nvCxnSpPr>
        <p:spPr>
          <a:xfrm rot="10800000">
            <a:off x="2015280" y="2564640"/>
            <a:ext cx="918360" cy="1242000"/>
          </a:xfrm>
          <a:prstGeom prst="curvedConnector2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13" name="Oval 24"/>
          <p:cNvSpPr/>
          <p:nvPr/>
        </p:nvSpPr>
        <p:spPr>
          <a:xfrm>
            <a:off x="2933640" y="2870280"/>
            <a:ext cx="3241800" cy="1873080"/>
          </a:xfrm>
          <a:prstGeom prst="ellipse">
            <a:avLst/>
          </a:prstGeom>
          <a:gradFill rotWithShape="0">
            <a:gsLst>
              <a:gs pos="0">
                <a:srgbClr val="ffbb57">
                  <a:alpha val="71372"/>
                </a:srgbClr>
              </a:gs>
              <a:gs pos="100000">
                <a:srgbClr val="765728">
                  <a:alpha val="7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Implica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Intelectual compl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18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250920" y="4365720"/>
            <a:ext cx="2592360" cy="5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as 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276720" y="1125360"/>
            <a:ext cx="2592360" cy="5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a 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6300720" y="4365720"/>
            <a:ext cx="2592360" cy="5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79640" y="2998800"/>
            <a:ext cx="4968720" cy="107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a competencia es una capac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struida y desarrol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24000" y="5013360"/>
            <a:ext cx="8569080" cy="1440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La relación </a:t>
            </a:r>
            <a:r>
              <a:rPr b="0" lang="es-MX" sz="2000" spc="-1" strike="noStrike" u="sng">
                <a:solidFill>
                  <a:srgbClr val="ffff00"/>
                </a:solidFill>
                <a:uFillTx/>
                <a:latin typeface="Arial"/>
              </a:rPr>
              <a:t>capacidad – competencia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se constituye en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aspecto esencial en el sujeto en formación, que se configur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roceso educativo como resultado de la acción pedag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95280" y="1773360"/>
            <a:ext cx="172872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Monotype Corsiva"/>
              </a:rPr>
              <a:t>se expresa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7236000" y="1773360"/>
            <a:ext cx="1368360" cy="28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Monotype Corsiva"/>
              </a:rPr>
              <a:t>desarrol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9"/>
          <p:cNvCxnSpPr>
            <a:stCxn id="220" idx="0"/>
            <a:endCxn id="225" idx="2"/>
          </p:cNvCxnSpPr>
          <p:nvPr/>
        </p:nvCxnSpPr>
        <p:spPr>
          <a:xfrm flipV="1" rot="16200000">
            <a:off x="251280" y="3068640"/>
            <a:ext cx="2305440" cy="288000"/>
          </a:xfrm>
          <a:prstGeom prst="bentConnector3">
            <a:avLst>
              <a:gd name="adj1" fmla="val 49992"/>
            </a:avLst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228" name="AutoShape 10"/>
          <p:cNvCxnSpPr>
            <a:stCxn id="225" idx="0"/>
            <a:endCxn id="221" idx="1"/>
          </p:cNvCxnSpPr>
          <p:nvPr/>
        </p:nvCxnSpPr>
        <p:spPr>
          <a:xfrm flipH="1" flipV="1" rot="5400000">
            <a:off x="2069640" y="567000"/>
            <a:ext cx="396000" cy="2017080"/>
          </a:xfrm>
          <a:prstGeom prst="bentConnector2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9" name="AutoShape 11"/>
          <p:cNvCxnSpPr>
            <a:stCxn id="221" idx="3"/>
            <a:endCxn id="226" idx="0"/>
          </p:cNvCxnSpPr>
          <p:nvPr/>
        </p:nvCxnSpPr>
        <p:spPr>
          <a:xfrm>
            <a:off x="5868720" y="1378080"/>
            <a:ext cx="2051640" cy="396000"/>
          </a:xfrm>
          <a:prstGeom prst="bentConnector2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230" name="AutoShape 12"/>
          <p:cNvCxnSpPr>
            <a:stCxn id="226" idx="2"/>
            <a:endCxn id="222" idx="0"/>
          </p:cNvCxnSpPr>
          <p:nvPr/>
        </p:nvCxnSpPr>
        <p:spPr>
          <a:xfrm rot="5400000">
            <a:off x="6605640" y="3051360"/>
            <a:ext cx="2305440" cy="322920"/>
          </a:xfrm>
          <a:prstGeom prst="bentConnector3">
            <a:avLst>
              <a:gd name="adj1" fmla="val 49992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1" name="AutoShape 14"/>
          <p:cNvCxnSpPr>
            <a:stCxn id="222" idx="1"/>
            <a:endCxn id="223" idx="2"/>
          </p:cNvCxnSpPr>
          <p:nvPr/>
        </p:nvCxnSpPr>
        <p:spPr>
          <a:xfrm rot="10800000">
            <a:off x="4463280" y="4077720"/>
            <a:ext cx="1837440" cy="540360"/>
          </a:xfrm>
          <a:prstGeom prst="bent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32" name="AutoShape 5"/>
          <p:cNvSpPr/>
          <p:nvPr/>
        </p:nvSpPr>
        <p:spPr>
          <a:xfrm>
            <a:off x="2050920" y="2060640"/>
            <a:ext cx="482616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a competencia es un saber hac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 saber y con 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37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4786200" y="4006800"/>
            <a:ext cx="367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específ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66560" y="4006800"/>
            <a:ext cx="3743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ompetenc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gen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260360" y="1195560"/>
            <a:ext cx="6480360" cy="1873080"/>
          </a:xfrm>
          <a:prstGeom prst="rect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00"/>
                </a:solidFill>
                <a:uFillTx/>
                <a:latin typeface="Arial"/>
              </a:rPr>
              <a:t>Competencias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Se van desarrollando, de manera integral, a lo largo de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programa académico, e interactúan en la realización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mayoría de las tareas que se le presentan a un sujeto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los diversos campos profe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9"/>
          <p:cNvCxnSpPr>
            <a:stCxn id="240" idx="0"/>
            <a:endCxn id="241" idx="2"/>
          </p:cNvCxnSpPr>
          <p:nvPr/>
        </p:nvCxnSpPr>
        <p:spPr>
          <a:xfrm flipH="1" flipV="1" rot="5400000">
            <a:off x="2950200" y="2456280"/>
            <a:ext cx="938880" cy="2162880"/>
          </a:xfrm>
          <a:prstGeom prst="bentConnector3">
            <a:avLst>
              <a:gd name="adj1" fmla="val 4998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43" name="AutoShape 10"/>
          <p:cNvCxnSpPr>
            <a:stCxn id="239" idx="0"/>
            <a:endCxn id="241" idx="2"/>
          </p:cNvCxnSpPr>
          <p:nvPr/>
        </p:nvCxnSpPr>
        <p:spPr>
          <a:xfrm flipV="1" rot="16200000">
            <a:off x="5092200" y="2476080"/>
            <a:ext cx="938880" cy="2122920"/>
          </a:xfrm>
          <a:prstGeom prst="bentConnector3">
            <a:avLst>
              <a:gd name="adj1" fmla="val 4998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44" name="14 Flecha derecha">
            <a:hlinkClick r:id="rId5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49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24000" y="1268280"/>
            <a:ext cx="2232000" cy="453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mplic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dáctic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desarrollo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pe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556000" y="1268280"/>
            <a:ext cx="62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Propiciar actividades de búsqueda, selección y análisis de información en distintas fu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556000" y="195912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Propiciar el uso de las nuevas tecnologías en el desarrollo de la asignatura (procesador de texto, hoja de cálculo, base de datos, graficador, software especializado, Internet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556000" y="2895480"/>
            <a:ext cx="62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mentar actividades grupales que propicien la comunicación, el intercambio argumentado de ideas, la reflexión, la integración y la colaboración de y entre los estud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56000" y="3801960"/>
            <a:ext cx="630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Propiciar, en el estudiante, el desarrollo de actividades intelectuales de inducción-deducción y análisis-síntesis, las cuales encaminan al alumno hacia el manejo de un pensamiento estratégico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556000" y="4738680"/>
            <a:ext cx="63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levar a cabo actividades prácticas que promuevan el desarrollo de habilidades para la experimentación, tales como: identificación manejo y control de de variables y datos relevantes, planteamiento de hipótesis, de trabajo en equi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61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324000" y="1268280"/>
            <a:ext cx="2232000" cy="453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mplic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dáctic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desarrollo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pe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584440" y="1268280"/>
            <a:ext cx="573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arrollar actividades de aprendizaje que propicien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plicación de los conceptos, modelos y metodologías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se van aprendiendo en el desarrollo de las asigna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615760" y="2276640"/>
            <a:ext cx="588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Proponer problemas que permitan al estudiante la integ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contenidos de  una asignatura y entre distintas asignatur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para su análisis y solu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2584440" y="3324240"/>
            <a:ext cx="573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Relacionar los contenidos de la asignatura con el cuidado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ed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584440" y="4143240"/>
            <a:ext cx="573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Observar y analizar fenómenos y problemáticas propias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ampo ocup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584440" y="4979880"/>
            <a:ext cx="573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Relacionar contenidos entre asignaturas del plan de estudios para desarrollar una visión interdisciplinaria  en el estudi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6 Flecha derecha">
            <a:hlinkClick r:id="rId5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74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95280" y="1130400"/>
            <a:ext cx="4537080" cy="1218960"/>
          </a:xfrm>
          <a:prstGeom prst="rect">
            <a:avLst/>
          </a:prstGeom>
          <a:blipFill rotWithShape="0">
            <a:blip r:embed="rId5">
              <a:alphaModFix amt="5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efinición del proces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iseño e innovación 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828800" y="2708280"/>
            <a:ext cx="6919920" cy="506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roceso dinámico, emergente y colabo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828800" y="3317760"/>
            <a:ext cx="6919920" cy="506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Sustentado teórica y metodológ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828800" y="4003560"/>
            <a:ext cx="6919920" cy="506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lica obtención y manejo de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828800" y="4689360"/>
            <a:ext cx="6919920" cy="506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articipación responsable y organ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828800" y="5375160"/>
            <a:ext cx="6919920" cy="506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roducción intelectual, académica e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86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9 Rectángulo"/>
          <p:cNvSpPr/>
          <p:nvPr/>
        </p:nvSpPr>
        <p:spPr>
          <a:xfrm>
            <a:off x="250920" y="3068640"/>
            <a:ext cx="2808360" cy="64944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0 Rectángulo"/>
          <p:cNvSpPr/>
          <p:nvPr/>
        </p:nvSpPr>
        <p:spPr>
          <a:xfrm>
            <a:off x="4211640" y="1125360"/>
            <a:ext cx="446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vocatori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(información, formación y producció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1 Rectángulo"/>
          <p:cNvSpPr/>
          <p:nvPr/>
        </p:nvSpPr>
        <p:spPr>
          <a:xfrm>
            <a:off x="4211640" y="2133720"/>
            <a:ext cx="446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aboración de propuestas en las academias de los Institutos Tecnológ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2 Rectángulo"/>
          <p:cNvSpPr/>
          <p:nvPr/>
        </p:nvSpPr>
        <p:spPr>
          <a:xfrm>
            <a:off x="4211640" y="3141720"/>
            <a:ext cx="446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alización de reuniones nacionales de diseño e innovación curr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3 Rectángulo"/>
          <p:cNvSpPr/>
          <p:nvPr/>
        </p:nvSpPr>
        <p:spPr>
          <a:xfrm>
            <a:off x="4211640" y="4148280"/>
            <a:ext cx="446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arrollo de compromisos en las academias de los institutos tecnológ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4 Rectángulo"/>
          <p:cNvSpPr/>
          <p:nvPr/>
        </p:nvSpPr>
        <p:spPr>
          <a:xfrm>
            <a:off x="4211640" y="5156280"/>
            <a:ext cx="446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uniones nacionales de consol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15408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298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9 Rectángulo"/>
          <p:cNvSpPr/>
          <p:nvPr/>
        </p:nvSpPr>
        <p:spPr>
          <a:xfrm>
            <a:off x="324000" y="2781360"/>
            <a:ext cx="3095640" cy="122400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alización de reuniones nacionales de diseño e innovación curr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0 Rectángulo"/>
          <p:cNvSpPr/>
          <p:nvPr/>
        </p:nvSpPr>
        <p:spPr>
          <a:xfrm>
            <a:off x="3995640" y="98100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nálisis de propuestas y elaboración del perfil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1 Rectángulo"/>
          <p:cNvSpPr/>
          <p:nvPr/>
        </p:nvSpPr>
        <p:spPr>
          <a:xfrm>
            <a:off x="3995640" y="1628640"/>
            <a:ext cx="482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finición de la estructura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2 Rectángulo"/>
          <p:cNvSpPr/>
          <p:nvPr/>
        </p:nvSpPr>
        <p:spPr>
          <a:xfrm>
            <a:off x="3995640" y="2276640"/>
            <a:ext cx="48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Organización de conjuntos signif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Rectángulo"/>
          <p:cNvSpPr/>
          <p:nvPr/>
        </p:nvSpPr>
        <p:spPr>
          <a:xfrm>
            <a:off x="3995640" y="2997360"/>
            <a:ext cx="48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aboración de programas sinté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Rectángulo"/>
          <p:cNvSpPr/>
          <p:nvPr/>
        </p:nvSpPr>
        <p:spPr>
          <a:xfrm>
            <a:off x="3995640" y="3789360"/>
            <a:ext cx="482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nálisis plenario y elaboración de recomend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3995640" y="544500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ablecimiento de comprom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6 Rectángulo"/>
          <p:cNvSpPr/>
          <p:nvPr/>
        </p:nvSpPr>
        <p:spPr>
          <a:xfrm>
            <a:off x="3995640" y="4726080"/>
            <a:ext cx="482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seño de la re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312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9 Rectángulo"/>
          <p:cNvSpPr/>
          <p:nvPr/>
        </p:nvSpPr>
        <p:spPr>
          <a:xfrm>
            <a:off x="395280" y="2852640"/>
            <a:ext cx="2808360" cy="100800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uniones nacionales de consol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0 Rectángulo"/>
          <p:cNvSpPr/>
          <p:nvPr/>
        </p:nvSpPr>
        <p:spPr>
          <a:xfrm>
            <a:off x="3816360" y="148428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cuperación de las recomendacion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os compromisos estable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1 Rectángulo"/>
          <p:cNvSpPr/>
          <p:nvPr/>
        </p:nvSpPr>
        <p:spPr>
          <a:xfrm>
            <a:off x="3816360" y="234936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nálisis de los programas desarrollados para la formación y desarrollo de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2 Rectángulo"/>
          <p:cNvSpPr/>
          <p:nvPr/>
        </p:nvSpPr>
        <p:spPr>
          <a:xfrm>
            <a:off x="3816360" y="321300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finición de la re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13 Rectángulo"/>
          <p:cNvSpPr/>
          <p:nvPr/>
        </p:nvSpPr>
        <p:spPr>
          <a:xfrm>
            <a:off x="3816360" y="407664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finición del objetivo y perfil de la 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4 Rectángulo"/>
          <p:cNvSpPr/>
          <p:nvPr/>
        </p:nvSpPr>
        <p:spPr>
          <a:xfrm>
            <a:off x="3816360" y="494028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aboración de la salid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6 Flecha derecha">
            <a:hlinkClick r:id="rId5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52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728800" y="1273680"/>
            <a:ext cx="63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Contribuir al desarrollo de una cultura de información, formació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participación y producción académicas en torno a las concep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del modelo educativo para el siglo XX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728800" y="2282040"/>
            <a:ext cx="634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Propiciar ambientes de trabajo ético, colaborativo e interdisciplin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para el aprendizaje, la producción académica y el desarrollo de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cultura científico-tecnológ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91600" y="187200"/>
            <a:ext cx="697032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bjetivos del Programa de Seguimiento 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728800" y="4250160"/>
            <a:ext cx="6345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Usar ampliamente las nuevas tecnologías de la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comunicación en los procesos de enseñanza-aprendizaje, análisis curricular, investigación educativa y formación continua del personal académico del SNE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728800" y="3332520"/>
            <a:ext cx="633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Compartir la experiencia institucional y la infraestructura tecnológ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en el SNEST mediante el desarrollo de comunidades académic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con formas de organización horizontal.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700360" y="5493600"/>
            <a:ext cx="6323040" cy="1098360"/>
          </a:xfrm>
          <a:prstGeom prst="rect">
            <a:avLst/>
          </a:prstGeom>
          <a:solidFill>
            <a:srgbClr val="000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Arial"/>
              </a:rPr>
              <a:t>Difundir el saber y el saber hacer pedagógico y científico-tecnológico. Fomentar el rescate, la generación y la puesta en común de obra editorial y experiencias académicas en los institutos tecnológicos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32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24000" y="1173240"/>
            <a:ext cx="5173560" cy="124776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Arial"/>
              </a:rPr>
              <a:t>Implicaciones sociales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Arial"/>
              </a:rPr>
              <a:t>determinan el diseño cur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5651640" y="2789280"/>
            <a:ext cx="3097080" cy="91692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Tiene fines socia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tiende demanda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 distinta índ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651640" y="3786120"/>
            <a:ext cx="3097080" cy="642600"/>
          </a:xfrm>
          <a:prstGeom prst="rect">
            <a:avLst/>
          </a:prstGeom>
          <a:blipFill rotWithShape="0">
            <a:blip r:embed="rId7">
              <a:alphaModFix amt="4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 transmite el patrimon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ultural de la huma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5651640" y="4506840"/>
            <a:ext cx="3097080" cy="642600"/>
          </a:xfrm>
          <a:prstGeom prst="rect">
            <a:avLst/>
          </a:prstGeom>
          <a:blipFill rotWithShape="0">
            <a:blip r:embed="rId8">
              <a:alphaModFix amt="4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cesos de so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 nuevas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651640" y="5226120"/>
            <a:ext cx="3097080" cy="642600"/>
          </a:xfrm>
          <a:prstGeom prst="rect">
            <a:avLst/>
          </a:prstGeom>
          <a:blipFill rotWithShape="0">
            <a:blip r:embed="rId9">
              <a:alphaModFix amt="4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eparación para f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sponsabilidad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12"/>
          <p:cNvCxnSpPr>
            <a:stCxn id="327" idx="2"/>
            <a:endCxn id="328" idx="1"/>
          </p:cNvCxnSpPr>
          <p:nvPr/>
        </p:nvCxnSpPr>
        <p:spPr>
          <a:xfrm flipH="1" rot="16200000">
            <a:off x="3865320" y="1466280"/>
            <a:ext cx="832680" cy="2741040"/>
          </a:xfrm>
          <a:prstGeom prst="bent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3" name="AutoShape 13"/>
          <p:cNvCxnSpPr>
            <a:stCxn id="327" idx="2"/>
            <a:endCxn id="329" idx="1"/>
          </p:cNvCxnSpPr>
          <p:nvPr/>
        </p:nvCxnSpPr>
        <p:spPr>
          <a:xfrm flipH="1" rot="16200000">
            <a:off x="3436200" y="1895760"/>
            <a:ext cx="1691280" cy="2741040"/>
          </a:xfrm>
          <a:prstGeom prst="bent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4" name="AutoShape 14"/>
          <p:cNvCxnSpPr>
            <a:stCxn id="327" idx="2"/>
            <a:endCxn id="330" idx="1"/>
          </p:cNvCxnSpPr>
          <p:nvPr/>
        </p:nvCxnSpPr>
        <p:spPr>
          <a:xfrm flipH="1" rot="16200000">
            <a:off x="3075840" y="2256120"/>
            <a:ext cx="2412000" cy="2741040"/>
          </a:xfrm>
          <a:prstGeom prst="bent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35" name="AutoShape 15"/>
          <p:cNvCxnSpPr>
            <a:stCxn id="327" idx="2"/>
            <a:endCxn id="331" idx="1"/>
          </p:cNvCxnSpPr>
          <p:nvPr/>
        </p:nvCxnSpPr>
        <p:spPr>
          <a:xfrm flipH="1" rot="16200000">
            <a:off x="2716200" y="2615760"/>
            <a:ext cx="3131280" cy="2741040"/>
          </a:xfrm>
          <a:prstGeom prst="bent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340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395280" y="1123920"/>
            <a:ext cx="4897440" cy="720720"/>
          </a:xfrm>
          <a:prstGeom prst="rect">
            <a:avLst/>
          </a:prstGeom>
          <a:blipFill rotWithShape="0">
            <a:blip r:embed="rId5">
              <a:alphaModFix amt="5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Un poco de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2124000" y="2492280"/>
            <a:ext cx="6769080" cy="935280"/>
          </a:xfrm>
          <a:prstGeom prst="rect">
            <a:avLst/>
          </a:prstGeom>
          <a:blipFill rotWithShape="0">
            <a:blip r:embed="rId6">
              <a:alphaModFix amt="5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oncepto nace a la sombra de la evolución de la cienci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ducación norteamericana para atender la educación del h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n la er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2124000" y="3573360"/>
            <a:ext cx="6769080" cy="935280"/>
          </a:xfrm>
          <a:prstGeom prst="rect">
            <a:avLst/>
          </a:prstGeom>
          <a:blipFill rotWithShape="0">
            <a:blip r:embed="rId7">
              <a:alphaModFix amt="5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ampo del curriculum se ha desarrollado en tal multiplic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ntidos que cuando uno hace referencia a este concepto d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larificarse en que sentido se emplea el 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124000" y="4653000"/>
            <a:ext cx="6769080" cy="1224000"/>
          </a:xfrm>
          <a:prstGeom prst="rect">
            <a:avLst/>
          </a:prstGeom>
          <a:blipFill rotWithShape="0">
            <a:blip r:embed="rId8">
              <a:alphaModFix amt="5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oncepto está unido al de planificación y evaluación germ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n él una contradicción: la de su racionalidad origin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(eficientista, conductual y gerencialista) y la diversidad i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or lo singular, particular “único e irrepetible” del hecho educ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AutoShape 13"/>
          <p:cNvCxnSpPr>
            <a:stCxn id="342" idx="2"/>
            <a:endCxn id="343" idx="0"/>
          </p:cNvCxnSpPr>
          <p:nvPr/>
        </p:nvCxnSpPr>
        <p:spPr>
          <a:xfrm flipH="1" rot="16200000">
            <a:off x="3852720" y="835920"/>
            <a:ext cx="648360" cy="2664720"/>
          </a:xfrm>
          <a:prstGeom prst="bentConnector3">
            <a:avLst>
              <a:gd name="adj1" fmla="val 5000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47" name="AutoShape 14"/>
          <p:cNvCxnSpPr>
            <a:stCxn id="343" idx="2"/>
            <a:endCxn id="344" idx="0"/>
          </p:cNvCxnSpPr>
          <p:nvPr/>
        </p:nvCxnSpPr>
        <p:spPr>
          <a:xfrm flipH="1">
            <a:off x="5508360" y="3428640"/>
            <a:ext cx="2160" cy="144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48" name="AutoShape 15"/>
          <p:cNvCxnSpPr>
            <a:stCxn id="344" idx="2"/>
            <a:endCxn id="345" idx="0"/>
          </p:cNvCxnSpPr>
          <p:nvPr/>
        </p:nvCxnSpPr>
        <p:spPr>
          <a:xfrm flipH="1">
            <a:off x="5506200" y="4508280"/>
            <a:ext cx="3960" cy="1465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353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24000" y="1125360"/>
            <a:ext cx="5472000" cy="93528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El campo del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51280" y="3068640"/>
            <a:ext cx="4608360" cy="1222200"/>
          </a:xfrm>
          <a:prstGeom prst="rect">
            <a:avLst/>
          </a:prstGeom>
          <a:blipFill rotWithShape="0">
            <a:blip r:embed="rId6">
              <a:alphaModFix amt="7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royec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(Planes y programas de estu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3851280" y="4581360"/>
            <a:ext cx="4608360" cy="1222560"/>
          </a:xfrm>
          <a:prstGeom prst="rect">
            <a:avLst/>
          </a:prstGeom>
          <a:blipFill rotWithShape="0">
            <a:blip r:embed="rId7">
              <a:alphaModFix amt="7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Vida acad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(Realidad y práctica educativ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5"/>
          <p:cNvCxnSpPr>
            <a:stCxn id="355" idx="2"/>
            <a:endCxn id="356" idx="1"/>
          </p:cNvCxnSpPr>
          <p:nvPr/>
        </p:nvCxnSpPr>
        <p:spPr>
          <a:xfrm flipH="1" rot="16200000">
            <a:off x="2646360" y="2474640"/>
            <a:ext cx="1620000" cy="791280"/>
          </a:xfrm>
          <a:prstGeom prst="bentConnector2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59" name="AutoShape 6"/>
          <p:cNvCxnSpPr>
            <a:stCxn id="355" idx="2"/>
            <a:endCxn id="357" idx="1"/>
          </p:cNvCxnSpPr>
          <p:nvPr/>
        </p:nvCxnSpPr>
        <p:spPr>
          <a:xfrm flipH="1" rot="16200000">
            <a:off x="1890000" y="3231000"/>
            <a:ext cx="3132720" cy="791280"/>
          </a:xfrm>
          <a:prstGeom prst="bentConnector2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364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45960" y="2097000"/>
            <a:ext cx="2400480" cy="5400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600360" y="549360"/>
            <a:ext cx="2590920" cy="468360"/>
          </a:xfrm>
          <a:prstGeom prst="rect">
            <a:avLst/>
          </a:prstGeom>
          <a:blipFill rotWithShape="0">
            <a:blip r:embed="rId6">
              <a:alphaModFix amt="4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o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597120" y="2151000"/>
            <a:ext cx="2590920" cy="468360"/>
          </a:xfrm>
          <a:prstGeom prst="rect">
            <a:avLst/>
          </a:prstGeom>
          <a:blipFill rotWithShape="0">
            <a:blip r:embed="rId7">
              <a:alphaModFix amt="4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o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588000" y="1197000"/>
            <a:ext cx="2494080" cy="102708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grama de diseñ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novación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6719760" y="3267000"/>
            <a:ext cx="2352960" cy="9367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gra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guimiento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84360" y="3068640"/>
            <a:ext cx="865080" cy="612720"/>
          </a:xfrm>
          <a:prstGeom prst="rect">
            <a:avLst/>
          </a:prstGeom>
          <a:blipFill rotWithShape="0">
            <a:blip r:embed="rId10">
              <a:alphaModFix amt="41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mp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3597120" y="3159000"/>
            <a:ext cx="2597400" cy="1152720"/>
          </a:xfrm>
          <a:prstGeom prst="rect">
            <a:avLst/>
          </a:prstGeom>
          <a:blipFill rotWithShape="0">
            <a:blip r:embed="rId11">
              <a:alphaModFix amt="41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Trabajo  disciplinar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terdiscipl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pistem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didáctico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564000" y="5084640"/>
            <a:ext cx="2663640" cy="1584360"/>
          </a:xfrm>
          <a:prstGeom prst="rect">
            <a:avLst/>
          </a:prstGeom>
          <a:blipFill rotWithShape="0">
            <a:blip r:embed="rId12">
              <a:alphaModFix amt="4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- Como tray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- Como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o espacio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AutoShape 10"/>
          <p:cNvCxnSpPr>
            <a:stCxn id="366" idx="3"/>
            <a:endCxn id="367" idx="1"/>
          </p:cNvCxnSpPr>
          <p:nvPr/>
        </p:nvCxnSpPr>
        <p:spPr>
          <a:xfrm flipV="1">
            <a:off x="2746440" y="783360"/>
            <a:ext cx="854640" cy="1583640"/>
          </a:xfrm>
          <a:prstGeom prst="bentConnector3">
            <a:avLst>
              <a:gd name="adj1" fmla="val 49978"/>
            </a:avLst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75" name="AutoShape 11"/>
          <p:cNvCxnSpPr>
            <a:stCxn id="366" idx="3"/>
            <a:endCxn id="368" idx="1"/>
          </p:cNvCxnSpPr>
          <p:nvPr/>
        </p:nvCxnSpPr>
        <p:spPr>
          <a:xfrm>
            <a:off x="2746080" y="2366640"/>
            <a:ext cx="851400" cy="19800"/>
          </a:xfrm>
          <a:prstGeom prst="bentConnector3">
            <a:avLst>
              <a:gd name="adj1" fmla="val 50000"/>
            </a:avLst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76" name="AutoShape 12"/>
          <p:cNvCxnSpPr>
            <a:stCxn id="366" idx="2"/>
          </p:cNvCxnSpPr>
          <p:nvPr/>
        </p:nvCxnSpPr>
        <p:spPr>
          <a:xfrm rot="5400000">
            <a:off x="1140480" y="2682720"/>
            <a:ext cx="451440" cy="359640"/>
          </a:xfrm>
          <a:prstGeom prst="bentConnector3">
            <a:avLst>
              <a:gd name="adj1" fmla="val 49960"/>
            </a:avLst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77" name="AutoShape 13"/>
          <p:cNvCxnSpPr>
            <a:stCxn id="378" idx="3"/>
            <a:endCxn id="372" idx="0"/>
          </p:cNvCxnSpPr>
          <p:nvPr/>
        </p:nvCxnSpPr>
        <p:spPr>
          <a:xfrm flipV="1">
            <a:off x="2627280" y="3159000"/>
            <a:ext cx="2269440" cy="1207080"/>
          </a:xfrm>
          <a:prstGeom prst="bentConnector4">
            <a:avLst>
              <a:gd name="adj1" fmla="val 21339"/>
              <a:gd name="adj2" fmla="val 118973"/>
            </a:avLst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9" name="Rectangle 14"/>
          <p:cNvSpPr/>
          <p:nvPr/>
        </p:nvSpPr>
        <p:spPr>
          <a:xfrm>
            <a:off x="398520" y="316080"/>
            <a:ext cx="2303280" cy="122364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sciplinar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terdiscipl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AutoShape 15"/>
          <p:cNvCxnSpPr>
            <a:stCxn id="372" idx="2"/>
            <a:endCxn id="373" idx="0"/>
          </p:cNvCxnSpPr>
          <p:nvPr/>
        </p:nvCxnSpPr>
        <p:spPr>
          <a:xfrm flipH="1">
            <a:off x="4895280" y="4311360"/>
            <a:ext cx="1080" cy="773640"/>
          </a:xfrm>
          <a:prstGeom prst="straightConnector1">
            <a:avLst/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81" name="Rectangle 16"/>
          <p:cNvSpPr/>
          <p:nvPr/>
        </p:nvSpPr>
        <p:spPr>
          <a:xfrm>
            <a:off x="866880" y="5678640"/>
            <a:ext cx="1366560" cy="360360"/>
          </a:xfrm>
          <a:prstGeom prst="rect">
            <a:avLst/>
          </a:prstGeom>
          <a:blipFill rotWithShape="0">
            <a:blip r:embed="rId14">
              <a:alphaModFix amt="4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 con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17"/>
          <p:cNvCxnSpPr>
            <a:stCxn id="381" idx="3"/>
            <a:endCxn id="373" idx="0"/>
          </p:cNvCxnSpPr>
          <p:nvPr/>
        </p:nvCxnSpPr>
        <p:spPr>
          <a:xfrm flipV="1">
            <a:off x="2233440" y="5084280"/>
            <a:ext cx="2663280" cy="775440"/>
          </a:xfrm>
          <a:prstGeom prst="bentConnector4">
            <a:avLst>
              <a:gd name="adj1" fmla="val 24983"/>
              <a:gd name="adj2" fmla="val 129493"/>
            </a:avLst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83" name="AutoShape 18"/>
          <p:cNvCxnSpPr>
            <a:stCxn id="368" idx="3"/>
            <a:endCxn id="370" idx="0"/>
          </p:cNvCxnSpPr>
          <p:nvPr/>
        </p:nvCxnSpPr>
        <p:spPr>
          <a:xfrm>
            <a:off x="6187680" y="2385720"/>
            <a:ext cx="1708920" cy="881640"/>
          </a:xfrm>
          <a:prstGeom prst="bentConnector2">
            <a:avLst/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84" name="AutoShape 19"/>
          <p:cNvCxnSpPr>
            <a:stCxn id="367" idx="3"/>
            <a:endCxn id="369" idx="0"/>
          </p:cNvCxnSpPr>
          <p:nvPr/>
        </p:nvCxnSpPr>
        <p:spPr>
          <a:xfrm>
            <a:off x="6191280" y="783720"/>
            <a:ext cx="1645200" cy="413640"/>
          </a:xfrm>
          <a:prstGeom prst="bentConnector2">
            <a:avLst/>
          </a:prstGeom>
          <a:ln w="3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85" name="AutoShape 20"/>
          <p:cNvCxnSpPr>
            <a:stCxn id="366" idx="1"/>
            <a:endCxn id="381" idx="1"/>
          </p:cNvCxnSpPr>
          <p:nvPr/>
        </p:nvCxnSpPr>
        <p:spPr>
          <a:xfrm flipH="1" flipV="1" rot="10800000">
            <a:off x="344880" y="2365920"/>
            <a:ext cx="521640" cy="3493080"/>
          </a:xfrm>
          <a:prstGeom prst="bentConnector3">
            <a:avLst>
              <a:gd name="adj1" fmla="val -4385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86" name="AutoShape 21"/>
          <p:cNvCxnSpPr>
            <a:stCxn id="367" idx="0"/>
            <a:endCxn id="379" idx="1"/>
          </p:cNvCxnSpPr>
          <p:nvPr/>
        </p:nvCxnSpPr>
        <p:spPr>
          <a:xfrm rot="5400000">
            <a:off x="2456640" y="-1509840"/>
            <a:ext cx="380160" cy="4498200"/>
          </a:xfrm>
          <a:prstGeom prst="bentConnector4">
            <a:avLst>
              <a:gd name="adj1" fmla="val -121706"/>
              <a:gd name="adj2" fmla="val 105082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87" name="Rectangle 22"/>
          <p:cNvSpPr/>
          <p:nvPr/>
        </p:nvSpPr>
        <p:spPr>
          <a:xfrm>
            <a:off x="6815160" y="5084640"/>
            <a:ext cx="2160720" cy="158436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total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vida académ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 la i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23"/>
          <p:cNvCxnSpPr>
            <a:stCxn id="373" idx="3"/>
            <a:endCxn id="387" idx="1"/>
          </p:cNvCxnSpPr>
          <p:nvPr/>
        </p:nvCxnSpPr>
        <p:spPr>
          <a:xfrm>
            <a:off x="6227640" y="5876640"/>
            <a:ext cx="58824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89" name="AutoShape 24"/>
          <p:cNvCxnSpPr>
            <a:stCxn id="370" idx="2"/>
            <a:endCxn id="387" idx="0"/>
          </p:cNvCxnSpPr>
          <p:nvPr/>
        </p:nvCxnSpPr>
        <p:spPr>
          <a:xfrm flipH="1">
            <a:off x="7895520" y="4203360"/>
            <a:ext cx="1080" cy="881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8" name="Rectangle 25"/>
          <p:cNvSpPr/>
          <p:nvPr/>
        </p:nvSpPr>
        <p:spPr>
          <a:xfrm>
            <a:off x="1116000" y="3933720"/>
            <a:ext cx="1511280" cy="863640"/>
          </a:xfrm>
          <a:prstGeom prst="rect">
            <a:avLst/>
          </a:prstGeom>
          <a:blipFill rotWithShape="0">
            <a:blip r:embed="rId16">
              <a:alphaModFix amt="41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n torno a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AutoShape 26"/>
          <p:cNvCxnSpPr/>
          <p:nvPr/>
        </p:nvCxnSpPr>
        <p:spPr>
          <a:xfrm flipH="1" flipV="1" rot="10800000">
            <a:off x="683280" y="3356640"/>
            <a:ext cx="432360" cy="991080"/>
          </a:xfrm>
          <a:prstGeom prst="bentConnector3">
            <a:avLst>
              <a:gd name="adj1" fmla="val -52916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1" name="Freeform 27"/>
          <p:cNvSpPr/>
          <p:nvPr/>
        </p:nvSpPr>
        <p:spPr>
          <a:xfrm>
            <a:off x="2124000" y="2637000"/>
            <a:ext cx="5778720" cy="2431800"/>
          </a:xfrm>
          <a:prstGeom prst="pie">
            <a:avLst/>
          </a:pr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5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70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5" dur="5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5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5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44280"/>
            <a:ext cx="1428840" cy="709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396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576360" y="1916280"/>
            <a:ext cx="1873080" cy="1166760"/>
          </a:xfrm>
          <a:prstGeom prst="rect">
            <a:avLst/>
          </a:prstGeom>
          <a:blipFill rotWithShape="0">
            <a:blip r:embed="rId5">
              <a:alphaModFix amt="5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Segu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>
            <a:hlinkClick r:id="rId6" action="ppaction://hlinksldjump"/>
          </p:cNvPr>
          <p:cNvSpPr/>
          <p:nvPr/>
        </p:nvSpPr>
        <p:spPr>
          <a:xfrm>
            <a:off x="4140360" y="1943280"/>
            <a:ext cx="4813200" cy="558720"/>
          </a:xfrm>
          <a:prstGeom prst="rect">
            <a:avLst/>
          </a:prstGeom>
          <a:blipFill rotWithShape="0">
            <a:blip r:embed="rId7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 como guía y 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>
            <a:hlinkClick r:id="rId8" action="ppaction://hlinksldjump"/>
          </p:cNvPr>
          <p:cNvSpPr/>
          <p:nvPr/>
        </p:nvSpPr>
        <p:spPr>
          <a:xfrm>
            <a:off x="4138560" y="1252440"/>
            <a:ext cx="4794480" cy="565200"/>
          </a:xfrm>
          <a:prstGeom prst="rect">
            <a:avLst/>
          </a:prstGeom>
          <a:blipFill rotWithShape="0">
            <a:blip r:embed="rId9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 como meta, como objetivo.</a:t>
            </a:r>
            <a:r>
              <a:rPr b="0" lang="es-MX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>
            <a:hlinkClick r:id="rId10" action="ppaction://hlinksldjump"/>
          </p:cNvPr>
          <p:cNvSpPr/>
          <p:nvPr/>
        </p:nvSpPr>
        <p:spPr>
          <a:xfrm>
            <a:off x="4140360" y="2592360"/>
            <a:ext cx="4803480" cy="558720"/>
          </a:xfrm>
          <a:prstGeom prst="rect">
            <a:avLst/>
          </a:prstGeom>
          <a:blipFill rotWithShape="0">
            <a:blip r:embed="rId11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 como colaboración y trabajo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>
            <a:hlinkClick r:id="rId12" action="ppaction://hlinksldjump"/>
          </p:cNvPr>
          <p:cNvSpPr/>
          <p:nvPr/>
        </p:nvSpPr>
        <p:spPr>
          <a:xfrm>
            <a:off x="4140360" y="3251160"/>
            <a:ext cx="4803480" cy="619200"/>
          </a:xfrm>
          <a:prstGeom prst="rect">
            <a:avLst/>
          </a:prstGeom>
          <a:blipFill rotWithShape="0">
            <a:blip r:embed="rId13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 como ejercicio y constr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esional y didáctica del mae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>
            <a:hlinkClick r:id="rId14" action="ppaction://hlinksldjump"/>
          </p:cNvPr>
          <p:cNvSpPr/>
          <p:nvPr/>
        </p:nvSpPr>
        <p:spPr>
          <a:xfrm>
            <a:off x="4140360" y="3992400"/>
            <a:ext cx="4798800" cy="741600"/>
          </a:xfrm>
          <a:prstGeom prst="rect">
            <a:avLst/>
          </a:prstGeom>
          <a:blipFill rotWithShape="0">
            <a:blip r:embed="rId15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 como un proceso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social, en movimiento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>
            <a:hlinkClick r:id="rId16" action="ppaction://hlinksldjump"/>
          </p:cNvPr>
          <p:cNvSpPr/>
          <p:nvPr/>
        </p:nvSpPr>
        <p:spPr>
          <a:xfrm>
            <a:off x="4140360" y="4846680"/>
            <a:ext cx="4798800" cy="743040"/>
          </a:xfrm>
          <a:prstGeom prst="rect">
            <a:avLst/>
          </a:prstGeom>
          <a:blipFill rotWithShape="0">
            <a:blip r:embed="rId17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curriculum como proceso para enrique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>
            <a:hlinkClick r:id="rId18" action="ppaction://hlinksldjump"/>
          </p:cNvPr>
          <p:cNvSpPr/>
          <p:nvPr/>
        </p:nvSpPr>
        <p:spPr>
          <a:xfrm>
            <a:off x="539640" y="5772240"/>
            <a:ext cx="8183520" cy="825480"/>
          </a:xfrm>
          <a:prstGeom prst="rect">
            <a:avLst/>
          </a:prstGeom>
          <a:blipFill rotWithShape="0">
            <a:blip r:embed="rId19">
              <a:alphaModFix amt="42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l curriculum como planeación, organización y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el proyec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AutoShape 18"/>
          <p:cNvCxnSpPr>
            <a:stCxn id="398" idx="3"/>
            <a:endCxn id="400" idx="1"/>
          </p:cNvCxnSpPr>
          <p:nvPr/>
        </p:nvCxnSpPr>
        <p:spPr>
          <a:xfrm flipV="1">
            <a:off x="2449440" y="1534320"/>
            <a:ext cx="1689840" cy="96588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7" name="AutoShape 19"/>
          <p:cNvCxnSpPr>
            <a:stCxn id="398" idx="3"/>
            <a:endCxn id="399" idx="1"/>
          </p:cNvCxnSpPr>
          <p:nvPr/>
        </p:nvCxnSpPr>
        <p:spPr>
          <a:xfrm flipV="1">
            <a:off x="2449080" y="2221920"/>
            <a:ext cx="1691640" cy="27828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8" name="AutoShape 20"/>
          <p:cNvCxnSpPr>
            <a:stCxn id="398" idx="3"/>
            <a:endCxn id="401" idx="1"/>
          </p:cNvCxnSpPr>
          <p:nvPr/>
        </p:nvCxnSpPr>
        <p:spPr>
          <a:xfrm>
            <a:off x="2449080" y="2500200"/>
            <a:ext cx="1691640" cy="37224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9" name="AutoShape 21"/>
          <p:cNvCxnSpPr>
            <a:stCxn id="398" idx="3"/>
            <a:endCxn id="402" idx="1"/>
          </p:cNvCxnSpPr>
          <p:nvPr/>
        </p:nvCxnSpPr>
        <p:spPr>
          <a:xfrm>
            <a:off x="2449080" y="2500200"/>
            <a:ext cx="1691640" cy="106128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10" name="AutoShape 22"/>
          <p:cNvCxnSpPr>
            <a:stCxn id="398" idx="3"/>
            <a:endCxn id="403" idx="1"/>
          </p:cNvCxnSpPr>
          <p:nvPr/>
        </p:nvCxnSpPr>
        <p:spPr>
          <a:xfrm>
            <a:off x="2449080" y="2499840"/>
            <a:ext cx="1691640" cy="186444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11" name="AutoShape 23"/>
          <p:cNvCxnSpPr>
            <a:stCxn id="398" idx="3"/>
            <a:endCxn id="404" idx="1"/>
          </p:cNvCxnSpPr>
          <p:nvPr/>
        </p:nvCxnSpPr>
        <p:spPr>
          <a:xfrm>
            <a:off x="2449080" y="2500200"/>
            <a:ext cx="1691640" cy="271872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12" name="Rectangle 30"/>
          <p:cNvSpPr/>
          <p:nvPr/>
        </p:nvSpPr>
        <p:spPr>
          <a:xfrm>
            <a:off x="324000" y="3571920"/>
            <a:ext cx="2376360" cy="1944720"/>
          </a:xfrm>
          <a:prstGeom prst="rect">
            <a:avLst/>
          </a:prstGeom>
          <a:blipFill rotWithShape="0">
            <a:blip r:embed="rId20">
              <a:alphaModFix amt="54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Construc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innov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y desarro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Vida acadé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31"/>
          <p:cNvCxnSpPr>
            <a:stCxn id="398" idx="2"/>
            <a:endCxn id="412" idx="0"/>
          </p:cNvCxnSpPr>
          <p:nvPr/>
        </p:nvCxnSpPr>
        <p:spPr>
          <a:xfrm flipH="1">
            <a:off x="1510920" y="3083040"/>
            <a:ext cx="2160" cy="4896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418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179280" y="1135080"/>
            <a:ext cx="5318280" cy="565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urriculum como meta, como objetivo.</a:t>
            </a:r>
            <a:r>
              <a:rPr b="1" lang="es-MX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3780000" y="3429000"/>
            <a:ext cx="5221080" cy="251928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ocer el proyecto académico en su con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nalizar su estructura e interr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tacar su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unicación con los demás involuc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Formar parte activ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1476360" y="1917720"/>
            <a:ext cx="4680000" cy="1224000"/>
          </a:xfrm>
          <a:prstGeom prst="rect">
            <a:avLst/>
          </a:prstGeom>
          <a:blipFill rotWithShape="0">
            <a:blip r:embed="rId7">
              <a:alphaModFix amt="49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infor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formación y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AutoShape 12"/>
          <p:cNvCxnSpPr>
            <a:stCxn id="422" idx="2"/>
            <a:endCxn id="421" idx="0"/>
          </p:cNvCxnSpPr>
          <p:nvPr/>
        </p:nvCxnSpPr>
        <p:spPr>
          <a:xfrm flipH="1" rot="16200000">
            <a:off x="4959360" y="1997640"/>
            <a:ext cx="288000" cy="2575800"/>
          </a:xfrm>
          <a:prstGeom prst="bentConnector3">
            <a:avLst>
              <a:gd name="adj1" fmla="val 49937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24" name="AutoShape 13"/>
          <p:cNvCxnSpPr>
            <a:stCxn id="420" idx="2"/>
            <a:endCxn id="422" idx="0"/>
          </p:cNvCxnSpPr>
          <p:nvPr/>
        </p:nvCxnSpPr>
        <p:spPr>
          <a:xfrm flipH="1" rot="16200000">
            <a:off x="3218760" y="1319760"/>
            <a:ext cx="218160" cy="978480"/>
          </a:xfrm>
          <a:prstGeom prst="bentConnector3">
            <a:avLst>
              <a:gd name="adj1" fmla="val 49917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25" name="28 Flecha derecha">
            <a:hlinkClick r:id="rId8" action="ppaction://hlinksldjump"/>
          </p:cNvPr>
          <p:cNvSpPr/>
          <p:nvPr/>
        </p:nvSpPr>
        <p:spPr>
          <a:xfrm>
            <a:off x="324000" y="6308640"/>
            <a:ext cx="360360" cy="289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430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6"/>
          <p:cNvSpPr/>
          <p:nvPr/>
        </p:nvSpPr>
        <p:spPr>
          <a:xfrm>
            <a:off x="179280" y="1141560"/>
            <a:ext cx="5340600" cy="558720"/>
          </a:xfrm>
          <a:prstGeom prst="rect">
            <a:avLst/>
          </a:prstGeom>
          <a:blipFill rotWithShape="0">
            <a:blip r:embed="rId5">
              <a:alphaModFix amt="57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l curriculum como guía y ori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7"/>
          <p:cNvSpPr/>
          <p:nvPr/>
        </p:nvSpPr>
        <p:spPr>
          <a:xfrm>
            <a:off x="5148360" y="3645000"/>
            <a:ext cx="3600360" cy="2950920"/>
          </a:xfrm>
          <a:prstGeom prst="rect">
            <a:avLst/>
          </a:prstGeom>
          <a:blipFill rotWithShape="0">
            <a:blip r:embed="rId6">
              <a:alphaModFix amt="57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Objetivo de la car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Perfil profe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Programas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Contenid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Competencias a desarr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Sugerencias Did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Actividades de aprendiza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Sugerencias de evaluación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611280" y="2131920"/>
            <a:ext cx="6265800" cy="1152720"/>
          </a:xfrm>
          <a:prstGeom prst="rect">
            <a:avLst/>
          </a:prstGeom>
          <a:blipFill rotWithShape="0">
            <a:blip r:embed="rId7">
              <a:alphaModFix amt="54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planeación did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(instrumentación didác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19"/>
          <p:cNvCxnSpPr>
            <a:stCxn id="432" idx="2"/>
            <a:endCxn id="434" idx="0"/>
          </p:cNvCxnSpPr>
          <p:nvPr/>
        </p:nvCxnSpPr>
        <p:spPr>
          <a:xfrm flipH="1" rot="16200000">
            <a:off x="3081240" y="1467720"/>
            <a:ext cx="432360" cy="89640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6" name="AutoShape 20"/>
          <p:cNvCxnSpPr>
            <a:stCxn id="434" idx="2"/>
            <a:endCxn id="433" idx="0"/>
          </p:cNvCxnSpPr>
          <p:nvPr/>
        </p:nvCxnSpPr>
        <p:spPr>
          <a:xfrm flipH="1" rot="16200000">
            <a:off x="5164560" y="1861920"/>
            <a:ext cx="361080" cy="320580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37" name="Rectangle 21"/>
          <p:cNvSpPr/>
          <p:nvPr/>
        </p:nvSpPr>
        <p:spPr>
          <a:xfrm>
            <a:off x="1187280" y="4148280"/>
            <a:ext cx="2089440" cy="1873080"/>
          </a:xfrm>
          <a:prstGeom prst="rect">
            <a:avLst/>
          </a:prstGeom>
          <a:blipFill rotWithShape="0">
            <a:blip r:embed="rId8">
              <a:alphaModFix amt="57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Discipl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Interdiscipl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pistem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Did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2"/>
          <p:cNvCxnSpPr>
            <a:stCxn id="434" idx="2"/>
            <a:endCxn id="437" idx="0"/>
          </p:cNvCxnSpPr>
          <p:nvPr/>
        </p:nvCxnSpPr>
        <p:spPr>
          <a:xfrm rot="5400000">
            <a:off x="2556000" y="2959560"/>
            <a:ext cx="864360" cy="151380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9" name="AutoShape 23"/>
          <p:cNvCxnSpPr>
            <a:stCxn id="437" idx="3"/>
            <a:endCxn id="433" idx="1"/>
          </p:cNvCxnSpPr>
          <p:nvPr/>
        </p:nvCxnSpPr>
        <p:spPr>
          <a:xfrm>
            <a:off x="3276360" y="5084640"/>
            <a:ext cx="1872360" cy="3744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40" name="17 Flecha derecha">
            <a:hlinkClick r:id="rId9" action="ppaction://hlinksldjump"/>
          </p:cNvPr>
          <p:cNvSpPr/>
          <p:nvPr/>
        </p:nvSpPr>
        <p:spPr>
          <a:xfrm>
            <a:off x="324000" y="6308640"/>
            <a:ext cx="360360" cy="289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4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6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44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2"/>
          <p:cNvSpPr/>
          <p:nvPr/>
        </p:nvSpPr>
        <p:spPr>
          <a:xfrm>
            <a:off x="179280" y="189000"/>
            <a:ext cx="4608720" cy="50328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urriculum como trabajo colab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3"/>
          <p:cNvSpPr/>
          <p:nvPr/>
        </p:nvSpPr>
        <p:spPr>
          <a:xfrm>
            <a:off x="324000" y="3247920"/>
            <a:ext cx="2735280" cy="192276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 inte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y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adémica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4567320" y="836640"/>
            <a:ext cx="4502160" cy="720720"/>
          </a:xfrm>
          <a:prstGeom prst="rect">
            <a:avLst/>
          </a:prstGeom>
          <a:blipFill rotWithShape="0">
            <a:blip r:embed="rId7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lanear, llevar a cabo y evaluar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ctividades de enseñanza y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567320" y="1628640"/>
            <a:ext cx="4500360" cy="432000"/>
          </a:xfrm>
          <a:prstGeom prst="rect">
            <a:avLst/>
          </a:prstGeom>
          <a:blipFill rotWithShape="0">
            <a:blip r:embed="rId8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ropiciar el trabajo interdiscipl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4567320" y="2133720"/>
            <a:ext cx="4491000" cy="576000"/>
          </a:xfrm>
          <a:prstGeom prst="rect">
            <a:avLst/>
          </a:prstGeom>
          <a:blipFill rotWithShape="0">
            <a:blip r:embed="rId9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Vincular los contenidos educativo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l entorno social y produc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7"/>
          <p:cNvSpPr/>
          <p:nvPr/>
        </p:nvSpPr>
        <p:spPr>
          <a:xfrm>
            <a:off x="4567320" y="2781360"/>
            <a:ext cx="4486320" cy="576360"/>
          </a:xfrm>
          <a:prstGeom prst="rect">
            <a:avLst/>
          </a:prstGeom>
          <a:blipFill rotWithShape="0">
            <a:blip r:embed="rId10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esarrollar trabajo académico intra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terdepartam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8"/>
          <p:cNvSpPr/>
          <p:nvPr/>
        </p:nvSpPr>
        <p:spPr>
          <a:xfrm>
            <a:off x="4567320" y="3429000"/>
            <a:ext cx="4486320" cy="577800"/>
          </a:xfrm>
          <a:prstGeom prst="rect">
            <a:avLst/>
          </a:prstGeom>
          <a:blipFill rotWithShape="0">
            <a:blip r:embed="rId11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Realizar la implementación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strumentación de los planes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9"/>
          <p:cNvSpPr/>
          <p:nvPr/>
        </p:nvSpPr>
        <p:spPr>
          <a:xfrm>
            <a:off x="4567320" y="4076640"/>
            <a:ext cx="4495680" cy="863640"/>
          </a:xfrm>
          <a:prstGeom prst="rect">
            <a:avLst/>
          </a:prstGeom>
          <a:blipFill rotWithShape="0">
            <a:blip r:embed="rId12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nalizar las problemáticas inherente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roceso enseñanza–aprendizaj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roponer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0"/>
          <p:cNvSpPr/>
          <p:nvPr/>
        </p:nvSpPr>
        <p:spPr>
          <a:xfrm>
            <a:off x="4567320" y="5877000"/>
            <a:ext cx="4495680" cy="936720"/>
          </a:xfrm>
          <a:prstGeom prst="rect">
            <a:avLst/>
          </a:prstGeom>
          <a:blipFill rotWithShape="0">
            <a:blip r:embed="rId13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esarrollar proyectos de doce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vestigación, vinculación y difus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AutoShape 31"/>
          <p:cNvCxnSpPr>
            <a:stCxn id="447" idx="2"/>
            <a:endCxn id="448" idx="0"/>
          </p:cNvCxnSpPr>
          <p:nvPr/>
        </p:nvCxnSpPr>
        <p:spPr>
          <a:xfrm rot="5400000">
            <a:off x="810000" y="1573920"/>
            <a:ext cx="2556360" cy="79272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57" name="AutoShape 32"/>
          <p:cNvCxnSpPr>
            <a:stCxn id="448" idx="3"/>
            <a:endCxn id="449" idx="1"/>
          </p:cNvCxnSpPr>
          <p:nvPr/>
        </p:nvCxnSpPr>
        <p:spPr>
          <a:xfrm flipV="1">
            <a:off x="3058920" y="1196640"/>
            <a:ext cx="1508760" cy="302184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58" name="AutoShape 33"/>
          <p:cNvCxnSpPr>
            <a:stCxn id="448" idx="3"/>
            <a:endCxn id="450" idx="1"/>
          </p:cNvCxnSpPr>
          <p:nvPr/>
        </p:nvCxnSpPr>
        <p:spPr>
          <a:xfrm flipV="1">
            <a:off x="3058920" y="1843920"/>
            <a:ext cx="1508760" cy="237420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59" name="AutoShape 34"/>
          <p:cNvCxnSpPr>
            <a:stCxn id="448" idx="3"/>
            <a:endCxn id="451" idx="1"/>
          </p:cNvCxnSpPr>
          <p:nvPr/>
        </p:nvCxnSpPr>
        <p:spPr>
          <a:xfrm flipV="1">
            <a:off x="3058920" y="2422080"/>
            <a:ext cx="1508760" cy="179640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60" name="AutoShape 35"/>
          <p:cNvCxnSpPr>
            <a:stCxn id="448" idx="3"/>
            <a:endCxn id="452" idx="1"/>
          </p:cNvCxnSpPr>
          <p:nvPr/>
        </p:nvCxnSpPr>
        <p:spPr>
          <a:xfrm flipV="1">
            <a:off x="3058920" y="3069360"/>
            <a:ext cx="1508760" cy="114876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61" name="AutoShape 36"/>
          <p:cNvCxnSpPr>
            <a:stCxn id="448" idx="3"/>
            <a:endCxn id="453" idx="1"/>
          </p:cNvCxnSpPr>
          <p:nvPr/>
        </p:nvCxnSpPr>
        <p:spPr>
          <a:xfrm flipV="1">
            <a:off x="3058920" y="3717360"/>
            <a:ext cx="1508760" cy="50076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62" name="AutoShape 37"/>
          <p:cNvCxnSpPr>
            <a:stCxn id="448" idx="3"/>
            <a:endCxn id="454" idx="1"/>
          </p:cNvCxnSpPr>
          <p:nvPr/>
        </p:nvCxnSpPr>
        <p:spPr>
          <a:xfrm>
            <a:off x="3058920" y="4217760"/>
            <a:ext cx="1508760" cy="29124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63" name="AutoShape 38"/>
          <p:cNvCxnSpPr>
            <a:stCxn id="448" idx="3"/>
            <a:endCxn id="455" idx="1"/>
          </p:cNvCxnSpPr>
          <p:nvPr/>
        </p:nvCxnSpPr>
        <p:spPr>
          <a:xfrm>
            <a:off x="3058920" y="4217760"/>
            <a:ext cx="1508760" cy="212796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64" name="Rectangle 39"/>
          <p:cNvSpPr/>
          <p:nvPr/>
        </p:nvSpPr>
        <p:spPr>
          <a:xfrm>
            <a:off x="4567320" y="5013360"/>
            <a:ext cx="4495680" cy="792000"/>
          </a:xfrm>
          <a:prstGeom prst="rect">
            <a:avLst/>
          </a:prstGeom>
          <a:blipFill rotWithShape="0">
            <a:blip r:embed="rId14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aborar material didáctico y estrateg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 Enseñanza-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40"/>
          <p:cNvCxnSpPr>
            <a:stCxn id="448" idx="3"/>
            <a:endCxn id="464" idx="1"/>
          </p:cNvCxnSpPr>
          <p:nvPr/>
        </p:nvCxnSpPr>
        <p:spPr>
          <a:xfrm>
            <a:off x="3058920" y="4217760"/>
            <a:ext cx="1508760" cy="119232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66" name="28 Flecha derecha">
            <a:hlinkClick r:id="rId15" action="ppaction://hlinksldjump"/>
          </p:cNvPr>
          <p:cNvSpPr/>
          <p:nvPr/>
        </p:nvSpPr>
        <p:spPr>
          <a:xfrm>
            <a:off x="250920" y="6308640"/>
            <a:ext cx="360360" cy="289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6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7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8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9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471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34920" y="1174680"/>
            <a:ext cx="5324400" cy="74160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urriculum como quehacer y constr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profesional y didáctica del prof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9"/>
          <p:cNvSpPr/>
          <p:nvPr/>
        </p:nvSpPr>
        <p:spPr>
          <a:xfrm>
            <a:off x="5722920" y="1700280"/>
            <a:ext cx="3241800" cy="647640"/>
          </a:xfrm>
          <a:prstGeom prst="rect">
            <a:avLst/>
          </a:prstGeom>
          <a:blipFill rotWithShape="0">
            <a:blip r:embed="rId6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gramas de 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ocente y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0"/>
          <p:cNvSpPr/>
          <p:nvPr/>
        </p:nvSpPr>
        <p:spPr>
          <a:xfrm>
            <a:off x="5722920" y="2421000"/>
            <a:ext cx="3241800" cy="647640"/>
          </a:xfrm>
          <a:prstGeom prst="rect">
            <a:avLst/>
          </a:prstGeom>
          <a:blipFill rotWithShape="0">
            <a:blip r:embed="rId7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adías y resi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1"/>
          <p:cNvSpPr/>
          <p:nvPr/>
        </p:nvSpPr>
        <p:spPr>
          <a:xfrm>
            <a:off x="5722920" y="3139920"/>
            <a:ext cx="3241800" cy="648000"/>
          </a:xfrm>
          <a:prstGeom prst="rect">
            <a:avLst/>
          </a:prstGeom>
          <a:blipFill rotWithShape="0">
            <a:blip r:embed="rId8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udios de pos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2"/>
          <p:cNvSpPr/>
          <p:nvPr/>
        </p:nvSpPr>
        <p:spPr>
          <a:xfrm>
            <a:off x="5722920" y="3860640"/>
            <a:ext cx="3241800" cy="648000"/>
          </a:xfrm>
          <a:prstGeom prst="rect">
            <a:avLst/>
          </a:prstGeom>
          <a:blipFill rotWithShape="0">
            <a:blip r:embed="rId9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unidades virtual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laboración e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3"/>
          <p:cNvSpPr/>
          <p:nvPr/>
        </p:nvSpPr>
        <p:spPr>
          <a:xfrm>
            <a:off x="5722920" y="4579920"/>
            <a:ext cx="3241800" cy="647640"/>
          </a:xfrm>
          <a:prstGeom prst="rect">
            <a:avLst/>
          </a:prstGeom>
          <a:blipFill rotWithShape="0">
            <a:blip r:embed="rId10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yec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AutoShape 34"/>
          <p:cNvCxnSpPr>
            <a:stCxn id="480" idx="3"/>
            <a:endCxn id="474" idx="1"/>
          </p:cNvCxnSpPr>
          <p:nvPr/>
        </p:nvCxnSpPr>
        <p:spPr>
          <a:xfrm flipV="1">
            <a:off x="3995640" y="2023920"/>
            <a:ext cx="1728000" cy="216108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1" name="AutoShape 35"/>
          <p:cNvCxnSpPr>
            <a:stCxn id="480" idx="3"/>
            <a:endCxn id="475" idx="1"/>
          </p:cNvCxnSpPr>
          <p:nvPr/>
        </p:nvCxnSpPr>
        <p:spPr>
          <a:xfrm flipV="1">
            <a:off x="3995640" y="2744640"/>
            <a:ext cx="1728000" cy="144036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82" name="Rectangle 36"/>
          <p:cNvSpPr/>
          <p:nvPr/>
        </p:nvSpPr>
        <p:spPr>
          <a:xfrm>
            <a:off x="179280" y="189000"/>
            <a:ext cx="4897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AutoShape 37"/>
          <p:cNvCxnSpPr>
            <a:stCxn id="480" idx="3"/>
            <a:endCxn id="476" idx="1"/>
          </p:cNvCxnSpPr>
          <p:nvPr/>
        </p:nvCxnSpPr>
        <p:spPr>
          <a:xfrm flipV="1">
            <a:off x="3995640" y="3463560"/>
            <a:ext cx="1728000" cy="72144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4" name="AutoShape 38"/>
          <p:cNvCxnSpPr>
            <a:stCxn id="480" idx="3"/>
            <a:endCxn id="477" idx="1"/>
          </p:cNvCxnSpPr>
          <p:nvPr/>
        </p:nvCxnSpPr>
        <p:spPr>
          <a:xfrm flipV="1">
            <a:off x="3995640" y="4183920"/>
            <a:ext cx="1728000" cy="108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5" name="AutoShape 39"/>
          <p:cNvCxnSpPr>
            <a:stCxn id="480" idx="3"/>
            <a:endCxn id="478" idx="1"/>
          </p:cNvCxnSpPr>
          <p:nvPr/>
        </p:nvCxnSpPr>
        <p:spPr>
          <a:xfrm>
            <a:off x="3995640" y="4184640"/>
            <a:ext cx="1728000" cy="72000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86" name="Rectangle 40"/>
          <p:cNvSpPr/>
          <p:nvPr/>
        </p:nvSpPr>
        <p:spPr>
          <a:xfrm>
            <a:off x="5722920" y="5299200"/>
            <a:ext cx="3241800" cy="647640"/>
          </a:xfrm>
          <a:prstGeom prst="rect">
            <a:avLst/>
          </a:prstGeom>
          <a:blipFill rotWithShape="0">
            <a:blip r:embed="rId11">
              <a:alphaModFix amt="4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áctica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AutoShape 41"/>
          <p:cNvCxnSpPr>
            <a:stCxn id="480" idx="3"/>
            <a:endCxn id="486" idx="1"/>
          </p:cNvCxnSpPr>
          <p:nvPr/>
        </p:nvCxnSpPr>
        <p:spPr>
          <a:xfrm>
            <a:off x="3995640" y="4184280"/>
            <a:ext cx="1728000" cy="1438920"/>
          </a:xfrm>
          <a:prstGeom prst="bentConnector3">
            <a:avLst>
              <a:gd name="adj1" fmla="val 49989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80" name="Rectangle 42"/>
          <p:cNvSpPr/>
          <p:nvPr/>
        </p:nvSpPr>
        <p:spPr>
          <a:xfrm>
            <a:off x="755640" y="3355920"/>
            <a:ext cx="3240000" cy="1657440"/>
          </a:xfrm>
          <a:prstGeom prst="rect">
            <a:avLst/>
          </a:prstGeom>
          <a:solidFill>
            <a:srgbClr val="cc3300">
              <a:alpha val="44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formació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43"/>
          <p:cNvCxnSpPr>
            <a:stCxn id="473" idx="2"/>
            <a:endCxn id="480" idx="0"/>
          </p:cNvCxnSpPr>
          <p:nvPr/>
        </p:nvCxnSpPr>
        <p:spPr>
          <a:xfrm rot="5400000">
            <a:off x="1816200" y="2475360"/>
            <a:ext cx="1440360" cy="321480"/>
          </a:xfrm>
          <a:prstGeom prst="bentConnector3">
            <a:avLst>
              <a:gd name="adj1" fmla="val 5000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89" name="25 Flecha derecha">
            <a:hlinkClick r:id="rId12" action="ppaction://hlinksldjump"/>
          </p:cNvPr>
          <p:cNvSpPr/>
          <p:nvPr/>
        </p:nvSpPr>
        <p:spPr>
          <a:xfrm>
            <a:off x="324000" y="6237360"/>
            <a:ext cx="360360" cy="287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494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34920" y="1268280"/>
            <a:ext cx="3529080" cy="743040"/>
          </a:xfrm>
          <a:prstGeom prst="rect">
            <a:avLst/>
          </a:prstGeom>
          <a:blipFill rotWithShape="0">
            <a:blip r:embed="rId5">
              <a:alphaModFix amt="60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urriculum como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proceso Histórico y soc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n movimiento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6"/>
          <p:cNvSpPr/>
          <p:nvPr/>
        </p:nvSpPr>
        <p:spPr>
          <a:xfrm>
            <a:off x="4294080" y="5443560"/>
            <a:ext cx="4741920" cy="504720"/>
          </a:xfrm>
          <a:prstGeom prst="rect">
            <a:avLst/>
          </a:prstGeom>
          <a:blipFill rotWithShape="0">
            <a:blip r:embed="rId6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blemáticas de la educación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7"/>
          <p:cNvSpPr/>
          <p:nvPr/>
        </p:nvSpPr>
        <p:spPr>
          <a:xfrm>
            <a:off x="4282920" y="1413000"/>
            <a:ext cx="4753080" cy="504720"/>
          </a:xfrm>
          <a:prstGeom prst="rect">
            <a:avLst/>
          </a:prstGeom>
          <a:blipFill rotWithShape="0">
            <a:blip r:embed="rId7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Tendencias mundiales en formación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8"/>
          <p:cNvSpPr/>
          <p:nvPr/>
        </p:nvSpPr>
        <p:spPr>
          <a:xfrm>
            <a:off x="4282920" y="1987560"/>
            <a:ext cx="4753080" cy="503280"/>
          </a:xfrm>
          <a:prstGeom prst="rect">
            <a:avLst/>
          </a:prstGeom>
          <a:blipFill rotWithShape="0">
            <a:blip r:embed="rId8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acticas predominantes y em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9"/>
          <p:cNvSpPr/>
          <p:nvPr/>
        </p:nvSpPr>
        <p:spPr>
          <a:xfrm>
            <a:off x="4282920" y="2562120"/>
            <a:ext cx="4753080" cy="505080"/>
          </a:xfrm>
          <a:prstGeom prst="rect">
            <a:avLst/>
          </a:prstGeom>
          <a:blipFill rotWithShape="0">
            <a:blip r:embed="rId9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0"/>
          <p:cNvSpPr/>
          <p:nvPr/>
        </p:nvSpPr>
        <p:spPr>
          <a:xfrm>
            <a:off x="4282920" y="3138480"/>
            <a:ext cx="4753080" cy="503280"/>
          </a:xfrm>
          <a:prstGeom prst="rect">
            <a:avLst/>
          </a:prstGeom>
          <a:blipFill rotWithShape="0">
            <a:blip r:embed="rId10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Necesidades sociales de profe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4282920" y="3713040"/>
            <a:ext cx="4753080" cy="503280"/>
          </a:xfrm>
          <a:prstGeom prst="rect">
            <a:avLst/>
          </a:prstGeom>
          <a:blipFill rotWithShape="0">
            <a:blip r:embed="rId11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lación con nivele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2"/>
          <p:cNvSpPr/>
          <p:nvPr/>
        </p:nvSpPr>
        <p:spPr>
          <a:xfrm>
            <a:off x="4282920" y="4287960"/>
            <a:ext cx="4753080" cy="503280"/>
          </a:xfrm>
          <a:prstGeom prst="rect">
            <a:avLst/>
          </a:prstGeom>
          <a:blipFill rotWithShape="0">
            <a:blip r:embed="rId12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lación con el entorno social y pro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3"/>
          <p:cNvSpPr/>
          <p:nvPr/>
        </p:nvSpPr>
        <p:spPr>
          <a:xfrm>
            <a:off x="4282920" y="4863960"/>
            <a:ext cx="4753080" cy="503280"/>
          </a:xfrm>
          <a:prstGeom prst="rect">
            <a:avLst/>
          </a:prstGeom>
          <a:blipFill rotWithShape="0">
            <a:blip r:embed="rId13">
              <a:alphaModFix amt="60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eocupación por el desarrollo sust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AutoShape 34"/>
          <p:cNvCxnSpPr>
            <a:stCxn id="506" idx="3"/>
            <a:endCxn id="498" idx="1"/>
          </p:cNvCxnSpPr>
          <p:nvPr/>
        </p:nvCxnSpPr>
        <p:spPr>
          <a:xfrm flipV="1">
            <a:off x="3347640" y="1664640"/>
            <a:ext cx="935640" cy="255636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07" name="AutoShape 35"/>
          <p:cNvCxnSpPr>
            <a:stCxn id="506" idx="3"/>
            <a:endCxn id="500" idx="1"/>
          </p:cNvCxnSpPr>
          <p:nvPr/>
        </p:nvCxnSpPr>
        <p:spPr>
          <a:xfrm flipV="1">
            <a:off x="3347640" y="2813760"/>
            <a:ext cx="935640" cy="140724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08" name="AutoShape 36"/>
          <p:cNvCxnSpPr>
            <a:stCxn id="506" idx="3"/>
            <a:endCxn id="501" idx="1"/>
          </p:cNvCxnSpPr>
          <p:nvPr/>
        </p:nvCxnSpPr>
        <p:spPr>
          <a:xfrm flipV="1">
            <a:off x="3347640" y="3389040"/>
            <a:ext cx="935640" cy="83232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09" name="AutoShape 37"/>
          <p:cNvCxnSpPr>
            <a:stCxn id="506" idx="3"/>
          </p:cNvCxnSpPr>
          <p:nvPr/>
        </p:nvCxnSpPr>
        <p:spPr>
          <a:xfrm>
            <a:off x="3348000" y="4220640"/>
            <a:ext cx="432720" cy="1080"/>
          </a:xfrm>
          <a:prstGeom prst="bentConnector3">
            <a:avLst>
              <a:gd name="adj1" fmla="val 49958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0" name="AutoShape 38"/>
          <p:cNvCxnSpPr>
            <a:stCxn id="506" idx="3"/>
            <a:endCxn id="503" idx="1"/>
          </p:cNvCxnSpPr>
          <p:nvPr/>
        </p:nvCxnSpPr>
        <p:spPr>
          <a:xfrm>
            <a:off x="3347640" y="4220640"/>
            <a:ext cx="935640" cy="32004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1" name="AutoShape 39"/>
          <p:cNvCxnSpPr>
            <a:stCxn id="506" idx="3"/>
            <a:endCxn id="504" idx="1"/>
          </p:cNvCxnSpPr>
          <p:nvPr/>
        </p:nvCxnSpPr>
        <p:spPr>
          <a:xfrm>
            <a:off x="3347640" y="4220640"/>
            <a:ext cx="935640" cy="89460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2" name="AutoShape 40"/>
          <p:cNvCxnSpPr>
            <a:stCxn id="506" idx="3"/>
            <a:endCxn id="497" idx="1"/>
          </p:cNvCxnSpPr>
          <p:nvPr/>
        </p:nvCxnSpPr>
        <p:spPr>
          <a:xfrm>
            <a:off x="3348000" y="4220640"/>
            <a:ext cx="946800" cy="1475640"/>
          </a:xfrm>
          <a:prstGeom prst="bentConnector3">
            <a:avLst>
              <a:gd name="adj1" fmla="val 4998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3" name="AutoShape 41"/>
          <p:cNvCxnSpPr>
            <a:stCxn id="506" idx="3"/>
            <a:endCxn id="499" idx="1"/>
          </p:cNvCxnSpPr>
          <p:nvPr/>
        </p:nvCxnSpPr>
        <p:spPr>
          <a:xfrm flipV="1">
            <a:off x="3347640" y="2239200"/>
            <a:ext cx="93564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06" name="Rectangle 42"/>
          <p:cNvSpPr/>
          <p:nvPr/>
        </p:nvSpPr>
        <p:spPr>
          <a:xfrm>
            <a:off x="755640" y="3139920"/>
            <a:ext cx="2592360" cy="2160720"/>
          </a:xfrm>
          <a:prstGeom prst="rect">
            <a:avLst/>
          </a:prstGeom>
          <a:solidFill>
            <a:srgbClr val="cc3300">
              <a:alpha val="59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Búsque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formación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vestig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43"/>
          <p:cNvCxnSpPr>
            <a:stCxn id="496" idx="2"/>
            <a:endCxn id="506" idx="0"/>
          </p:cNvCxnSpPr>
          <p:nvPr/>
        </p:nvCxnSpPr>
        <p:spPr>
          <a:xfrm flipH="1" rot="16200000">
            <a:off x="1361160" y="2449080"/>
            <a:ext cx="1129320" cy="25308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28 Flecha derecha">
            <a:hlinkClick r:id="rId14" action="ppaction://hlinksldjump"/>
          </p:cNvPr>
          <p:cNvSpPr/>
          <p:nvPr/>
        </p:nvSpPr>
        <p:spPr>
          <a:xfrm>
            <a:off x="250920" y="6308640"/>
            <a:ext cx="360360" cy="289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4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928880" y="2282760"/>
            <a:ext cx="5500800" cy="1771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928880" y="2282760"/>
            <a:ext cx="5500800" cy="1771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50920" y="1916280"/>
            <a:ext cx="4537080" cy="360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iseño e innov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urr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ara la form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y desarroll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>
            <a:hlinkClick r:id="rId5" action="ppaction://hlinksldjump"/>
          </p:cNvPr>
          <p:cNvSpPr/>
          <p:nvPr/>
        </p:nvSpPr>
        <p:spPr>
          <a:xfrm>
            <a:off x="4859280" y="3141720"/>
            <a:ext cx="381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Implicaciones didác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>
            <a:hlinkClick r:id="rId6" action="ppaction://hlinksldjump"/>
          </p:cNvPr>
          <p:cNvSpPr/>
          <p:nvPr/>
        </p:nvSpPr>
        <p:spPr>
          <a:xfrm>
            <a:off x="4859280" y="249228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Tendencias formativas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la educación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>
            <a:hlinkClick r:id="rId7" action="ppaction://hlinksldjump"/>
          </p:cNvPr>
          <p:cNvSpPr/>
          <p:nvPr/>
        </p:nvSpPr>
        <p:spPr>
          <a:xfrm>
            <a:off x="4859280" y="1916280"/>
            <a:ext cx="3816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El contexto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>
            <a:hlinkClick r:id="rId8" action="ppaction://hlinksldjump"/>
          </p:cNvPr>
          <p:cNvSpPr/>
          <p:nvPr/>
        </p:nvSpPr>
        <p:spPr>
          <a:xfrm>
            <a:off x="4859280" y="3716280"/>
            <a:ext cx="381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Actividades desarroll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>
            <a:hlinkClick r:id="rId9" action="ppaction://hlinksldjump"/>
          </p:cNvPr>
          <p:cNvSpPr/>
          <p:nvPr/>
        </p:nvSpPr>
        <p:spPr>
          <a:xfrm>
            <a:off x="4859280" y="4292640"/>
            <a:ext cx="381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Seguimiento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>
            <a:hlinkClick r:id="rId10" action="ppaction://hlinksldjump"/>
          </p:cNvPr>
          <p:cNvSpPr/>
          <p:nvPr/>
        </p:nvSpPr>
        <p:spPr>
          <a:xfrm>
            <a:off x="4859280" y="5013360"/>
            <a:ext cx="381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Formación y desarroll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00"/>
                </a:solidFill>
                <a:latin typeface="Arial"/>
              </a:rPr>
              <a:t>competencias doc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520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9"/>
          <p:cNvSpPr/>
          <p:nvPr/>
        </p:nvSpPr>
        <p:spPr>
          <a:xfrm>
            <a:off x="108000" y="1069920"/>
            <a:ext cx="5329080" cy="558720"/>
          </a:xfrm>
          <a:prstGeom prst="rect">
            <a:avLst/>
          </a:prstGeom>
          <a:blipFill rotWithShape="0">
            <a:blip r:embed="rId5">
              <a:alphaModFix amt="56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urriculum como proceso para enriquec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179280" y="2873520"/>
            <a:ext cx="3529080" cy="1492200"/>
          </a:xfrm>
          <a:prstGeom prst="rect">
            <a:avLst/>
          </a:prstGeom>
          <a:blipFill rotWithShape="0">
            <a:blip r:embed="rId6">
              <a:alphaModFix amt="54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nálisis e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1"/>
          <p:cNvSpPr/>
          <p:nvPr/>
        </p:nvSpPr>
        <p:spPr>
          <a:xfrm>
            <a:off x="6229440" y="1341360"/>
            <a:ext cx="2662200" cy="792360"/>
          </a:xfrm>
          <a:prstGeom prst="rect">
            <a:avLst/>
          </a:prstGeom>
          <a:blipFill rotWithShape="0">
            <a:blip r:embed="rId7">
              <a:alphaModFix amt="56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desarrollo históric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ciencia y la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2"/>
          <p:cNvSpPr/>
          <p:nvPr/>
        </p:nvSpPr>
        <p:spPr>
          <a:xfrm>
            <a:off x="5219640" y="4149720"/>
            <a:ext cx="3672000" cy="861840"/>
          </a:xfrm>
          <a:prstGeom prst="rect">
            <a:avLst/>
          </a:prstGeom>
          <a:blipFill rotWithShape="0">
            <a:blip r:embed="rId8">
              <a:alphaModFix amt="56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s políticas y tendenci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educación superior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3"/>
          <p:cNvSpPr/>
          <p:nvPr/>
        </p:nvSpPr>
        <p:spPr>
          <a:xfrm>
            <a:off x="6227640" y="2276640"/>
            <a:ext cx="2664000" cy="792000"/>
          </a:xfrm>
          <a:prstGeom prst="rect">
            <a:avLst/>
          </a:prstGeom>
          <a:blipFill rotWithShape="0">
            <a:blip r:embed="rId9">
              <a:alphaModFix amt="56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s transformacione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mundo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2771640" y="5157720"/>
            <a:ext cx="3095640" cy="863640"/>
          </a:xfrm>
          <a:prstGeom prst="rect">
            <a:avLst/>
          </a:prstGeom>
          <a:blipFill rotWithShape="0">
            <a:blip r:embed="rId10">
              <a:alphaModFix amt="56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actualización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didáctica del profes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25"/>
          <p:cNvCxnSpPr>
            <a:stCxn id="522" idx="2"/>
            <a:endCxn id="523" idx="0"/>
          </p:cNvCxnSpPr>
          <p:nvPr/>
        </p:nvCxnSpPr>
        <p:spPr>
          <a:xfrm rot="5400000">
            <a:off x="1734840" y="1837440"/>
            <a:ext cx="1245600" cy="827640"/>
          </a:xfrm>
          <a:prstGeom prst="bentConnector3">
            <a:avLst>
              <a:gd name="adj1" fmla="val 49985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9" name="Rectangle 26"/>
          <p:cNvSpPr/>
          <p:nvPr/>
        </p:nvSpPr>
        <p:spPr>
          <a:xfrm>
            <a:off x="6012000" y="3141720"/>
            <a:ext cx="2879640" cy="792000"/>
          </a:xfrm>
          <a:prstGeom prst="rect">
            <a:avLst/>
          </a:prstGeom>
          <a:blipFill rotWithShape="0">
            <a:blip r:embed="rId11">
              <a:alphaModFix amt="56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os proceso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n la educación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27"/>
          <p:cNvGrpSpPr/>
          <p:nvPr/>
        </p:nvGrpSpPr>
        <p:grpSpPr>
          <a:xfrm>
            <a:off x="4318920" y="1735560"/>
            <a:ext cx="1910160" cy="3421440"/>
            <a:chOff x="4318920" y="1735560"/>
            <a:chExt cx="1910160" cy="3421440"/>
          </a:xfrm>
        </p:grpSpPr>
        <p:cxnSp>
          <p:nvCxnSpPr>
            <p:cNvPr id="531" name="AutoShape 28"/>
            <p:cNvCxnSpPr>
              <a:stCxn id="525" idx="1"/>
              <a:endCxn id="527" idx="0"/>
            </p:cNvCxnSpPr>
            <p:nvPr/>
          </p:nvCxnSpPr>
          <p:spPr>
            <a:xfrm flipV="1" rot="10800000">
              <a:off x="4318920" y="4580280"/>
              <a:ext cx="900720" cy="577080"/>
            </a:xfrm>
            <a:prstGeom prst="bentConnector2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32" name="AutoShape 29"/>
            <p:cNvCxnSpPr>
              <a:stCxn id="524" idx="1"/>
              <a:endCxn id="527" idx="0"/>
            </p:cNvCxnSpPr>
            <p:nvPr/>
          </p:nvCxnSpPr>
          <p:spPr>
            <a:xfrm flipV="1" rot="10800000">
              <a:off x="4318920" y="1735560"/>
              <a:ext cx="1910520" cy="3421800"/>
            </a:xfrm>
            <a:prstGeom prst="bentConnector2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33" name="AutoShape 30"/>
            <p:cNvCxnSpPr>
              <a:stCxn id="526" idx="1"/>
              <a:endCxn id="527" idx="0"/>
            </p:cNvCxnSpPr>
            <p:nvPr/>
          </p:nvCxnSpPr>
          <p:spPr>
            <a:xfrm flipV="1" rot="10800000">
              <a:off x="4318920" y="2672280"/>
              <a:ext cx="1908720" cy="2485080"/>
            </a:xfrm>
            <a:prstGeom prst="bentConnector2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34" name="AutoShape 31"/>
            <p:cNvCxnSpPr>
              <a:stCxn id="529" idx="1"/>
              <a:endCxn id="527" idx="0"/>
            </p:cNvCxnSpPr>
            <p:nvPr/>
          </p:nvCxnSpPr>
          <p:spPr>
            <a:xfrm flipV="1" rot="10800000">
              <a:off x="4318920" y="3536640"/>
              <a:ext cx="1693080" cy="1620000"/>
            </a:xfrm>
            <a:prstGeom prst="bentConnector2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</p:cxnSp>
      </p:grpSp>
      <p:cxnSp>
        <p:nvCxnSpPr>
          <p:cNvPr id="535" name="AutoShape 32"/>
          <p:cNvCxnSpPr>
            <a:stCxn id="527" idx="1"/>
            <a:endCxn id="523" idx="2"/>
          </p:cNvCxnSpPr>
          <p:nvPr/>
        </p:nvCxnSpPr>
        <p:spPr>
          <a:xfrm rot="10800000">
            <a:off x="1944000" y="4365000"/>
            <a:ext cx="827640" cy="1224720"/>
          </a:xfrm>
          <a:prstGeom prst="bentConnector2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36" name="21 Flecha derecha">
            <a:hlinkClick r:id="rId12" action="ppaction://hlinksldjump"/>
          </p:cNvPr>
          <p:cNvSpPr/>
          <p:nvPr/>
        </p:nvSpPr>
        <p:spPr>
          <a:xfrm>
            <a:off x="324000" y="6308640"/>
            <a:ext cx="360360" cy="289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"/>
          <p:cNvPicPr/>
          <p:nvPr/>
        </p:nvPicPr>
        <p:blipFill>
          <a:blip r:embed="rId2"/>
          <a:stretch/>
        </p:blipFill>
        <p:spPr>
          <a:xfrm>
            <a:off x="142920" y="1150920"/>
            <a:ext cx="1562040" cy="67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6993000" y="81000"/>
            <a:ext cx="2052720" cy="7095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541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3059280" y="1341360"/>
            <a:ext cx="56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información, 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y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3059280" y="2062080"/>
            <a:ext cx="56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instrumentación did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3059280" y="2854440"/>
            <a:ext cx="56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búsqueda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060720" y="3691080"/>
            <a:ext cx="60832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00"/>
                </a:solidFill>
                <a:latin typeface="Arial"/>
              </a:rPr>
              <a:t>Actividades de  interacción, y       producción académica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3062160" y="4437000"/>
            <a:ext cx="56865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formación y 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3059280" y="5157720"/>
            <a:ext cx="568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análisis e innov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503280" y="2046240"/>
            <a:ext cx="1873080" cy="1166760"/>
          </a:xfrm>
          <a:prstGeom prst="rect">
            <a:avLst/>
          </a:prstGeom>
          <a:blipFill rotWithShape="0">
            <a:blip r:embed="rId5">
              <a:alphaModFix amt="5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Segu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108000" y="3573360"/>
            <a:ext cx="2663640" cy="1871640"/>
          </a:xfrm>
          <a:prstGeom prst="rect">
            <a:avLst/>
          </a:prstGeom>
          <a:blipFill rotWithShape="0">
            <a:blip r:embed="rId6">
              <a:alphaModFix amt="54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struc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y desarrollo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Vida acad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AutoShape 12"/>
          <p:cNvCxnSpPr/>
          <p:nvPr/>
        </p:nvCxnSpPr>
        <p:spPr>
          <a:xfrm flipH="1" rot="16200000">
            <a:off x="1258920" y="3392640"/>
            <a:ext cx="3610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52" name="18 Flecha derecha">
            <a:hlinkClick r:id="rId7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557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"/>
          <p:cNvSpPr/>
          <p:nvPr/>
        </p:nvSpPr>
        <p:spPr>
          <a:xfrm>
            <a:off x="2987640" y="2567160"/>
            <a:ext cx="331308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Compet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Arial"/>
              </a:rPr>
              <a:t>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0" y="112536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e que e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habl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08000" y="227808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mplica necesar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un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telectual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3276720" y="981000"/>
            <a:ext cx="280800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a relacionada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aberes (teorías, model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xiomas, técnicas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6300720" y="227808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 vincula con el s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Hacer (formaliz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tex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6300720" y="379080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ferida a un 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3276720" y="5157720"/>
            <a:ext cx="280800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taca un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(actuación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108000" y="3790800"/>
            <a:ext cx="2808360" cy="10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lude a asp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ctitudi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axi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AutoShape 10"/>
          <p:cNvCxnSpPr>
            <a:stCxn id="561" idx="0"/>
            <a:endCxn id="562" idx="1"/>
          </p:cNvCxnSpPr>
          <p:nvPr/>
        </p:nvCxnSpPr>
        <p:spPr>
          <a:xfrm flipH="1" flipV="1" rot="5400000">
            <a:off x="2016000" y="1017000"/>
            <a:ext cx="757800" cy="176472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68" name="AutoShape 11"/>
          <p:cNvCxnSpPr>
            <a:stCxn id="562" idx="3"/>
            <a:endCxn id="563" idx="0"/>
          </p:cNvCxnSpPr>
          <p:nvPr/>
        </p:nvCxnSpPr>
        <p:spPr>
          <a:xfrm>
            <a:off x="6084360" y="1520640"/>
            <a:ext cx="1621800" cy="7578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69" name="AutoShape 12"/>
          <p:cNvCxnSpPr>
            <a:stCxn id="563" idx="2"/>
            <a:endCxn id="564" idx="0"/>
          </p:cNvCxnSpPr>
          <p:nvPr/>
        </p:nvCxnSpPr>
        <p:spPr>
          <a:xfrm flipH="1">
            <a:off x="7705080" y="3358800"/>
            <a:ext cx="1080" cy="432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0" name="AutoShape 13"/>
          <p:cNvCxnSpPr>
            <a:stCxn id="564" idx="2"/>
            <a:endCxn id="565" idx="3"/>
          </p:cNvCxnSpPr>
          <p:nvPr/>
        </p:nvCxnSpPr>
        <p:spPr>
          <a:xfrm rot="5400000">
            <a:off x="6480720" y="4474800"/>
            <a:ext cx="828000" cy="16218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1" name="AutoShape 14"/>
          <p:cNvCxnSpPr>
            <a:stCxn id="565" idx="1"/>
            <a:endCxn id="566" idx="2"/>
          </p:cNvCxnSpPr>
          <p:nvPr/>
        </p:nvCxnSpPr>
        <p:spPr>
          <a:xfrm rot="10800000">
            <a:off x="1512000" y="4871160"/>
            <a:ext cx="1764720" cy="828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72" name="AutoShape 15"/>
          <p:cNvCxnSpPr>
            <a:stCxn id="566" idx="0"/>
            <a:endCxn id="561" idx="2"/>
          </p:cNvCxnSpPr>
          <p:nvPr/>
        </p:nvCxnSpPr>
        <p:spPr>
          <a:xfrm flipV="1">
            <a:off x="1512360" y="3358440"/>
            <a:ext cx="1080" cy="432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577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03280" y="1052640"/>
            <a:ext cx="61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Formación y desarrollo de competencias doc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5724360" y="508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gener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licar   estrateg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611280" y="184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obtene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struir 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5724360" y="184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organ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aplicar 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611280" y="5084640"/>
            <a:ext cx="280836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pacidad para analiza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solver  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2933640" y="2870280"/>
            <a:ext cx="3241800" cy="187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Procesos psic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básicos (percep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atención, memor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motivación, emo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 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6"/>
          <p:cNvCxnSpPr>
            <a:stCxn id="581" idx="3"/>
            <a:endCxn id="582" idx="1"/>
          </p:cNvCxnSpPr>
          <p:nvPr/>
        </p:nvCxnSpPr>
        <p:spPr>
          <a:xfrm>
            <a:off x="3419640" y="2204640"/>
            <a:ext cx="2305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6" name="AutoShape 17"/>
          <p:cNvCxnSpPr>
            <a:stCxn id="582" idx="2"/>
            <a:endCxn id="580" idx="0"/>
          </p:cNvCxnSpPr>
          <p:nvPr/>
        </p:nvCxnSpPr>
        <p:spPr>
          <a:xfrm flipH="1">
            <a:off x="7128720" y="2565360"/>
            <a:ext cx="1080" cy="25200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7" name="AutoShape 18"/>
          <p:cNvCxnSpPr>
            <a:stCxn id="580" idx="1"/>
            <a:endCxn id="583" idx="3"/>
          </p:cNvCxnSpPr>
          <p:nvPr/>
        </p:nvCxnSpPr>
        <p:spPr>
          <a:xfrm flipH="1" flipV="1">
            <a:off x="3419280" y="5444280"/>
            <a:ext cx="230544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8" name="AutoShape 19"/>
          <p:cNvCxnSpPr>
            <a:stCxn id="583" idx="0"/>
            <a:endCxn id="581" idx="2"/>
          </p:cNvCxnSpPr>
          <p:nvPr/>
        </p:nvCxnSpPr>
        <p:spPr>
          <a:xfrm flipV="1">
            <a:off x="2015640" y="2565000"/>
            <a:ext cx="1080" cy="25200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89" name="AutoShape 20"/>
          <p:cNvCxnSpPr>
            <a:stCxn id="584" idx="0"/>
            <a:endCxn id="582" idx="2"/>
          </p:cNvCxnSpPr>
          <p:nvPr/>
        </p:nvCxnSpPr>
        <p:spPr>
          <a:xfrm flipH="1" flipV="1" rot="5400000">
            <a:off x="5688360" y="1429560"/>
            <a:ext cx="305640" cy="257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90" name="AutoShape 21"/>
          <p:cNvCxnSpPr>
            <a:stCxn id="584" idx="6"/>
            <a:endCxn id="580" idx="0"/>
          </p:cNvCxnSpPr>
          <p:nvPr/>
        </p:nvCxnSpPr>
        <p:spPr>
          <a:xfrm>
            <a:off x="6175440" y="3806640"/>
            <a:ext cx="954720" cy="1278360"/>
          </a:xfrm>
          <a:prstGeom prst="curvedConnector2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91" name="AutoShape 22"/>
          <p:cNvCxnSpPr>
            <a:stCxn id="584" idx="4"/>
            <a:endCxn id="583" idx="0"/>
          </p:cNvCxnSpPr>
          <p:nvPr/>
        </p:nvCxnSpPr>
        <p:spPr>
          <a:xfrm rot="5400000">
            <a:off x="3113640" y="3644640"/>
            <a:ext cx="342000" cy="253908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92" name="AutoShape 23"/>
          <p:cNvCxnSpPr>
            <a:stCxn id="584" idx="2"/>
            <a:endCxn id="581" idx="2"/>
          </p:cNvCxnSpPr>
          <p:nvPr/>
        </p:nvCxnSpPr>
        <p:spPr>
          <a:xfrm rot="10800000">
            <a:off x="2015280" y="2564640"/>
            <a:ext cx="918360" cy="1242000"/>
          </a:xfrm>
          <a:prstGeom prst="curvedConnector2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93" name="Oval 24"/>
          <p:cNvSpPr/>
          <p:nvPr/>
        </p:nvSpPr>
        <p:spPr>
          <a:xfrm>
            <a:off x="2933640" y="2870280"/>
            <a:ext cx="3241800" cy="1873080"/>
          </a:xfrm>
          <a:prstGeom prst="ellipse">
            <a:avLst/>
          </a:prstGeom>
          <a:gradFill rotWithShape="0">
            <a:gsLst>
              <a:gs pos="0">
                <a:srgbClr val="ffbb57">
                  <a:alpha val="71372"/>
                </a:srgbClr>
              </a:gs>
              <a:gs pos="100000">
                <a:srgbClr val="765728">
                  <a:alpha val="7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Implica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Intelectual compl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598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"/>
          <p:cNvSpPr/>
          <p:nvPr/>
        </p:nvSpPr>
        <p:spPr>
          <a:xfrm>
            <a:off x="374400" y="1362600"/>
            <a:ext cx="85377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mpetencias docent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lanificar el proceso de enseñanza-aprendizaje con base en los conten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isciplinares, las características del alumnado y los recursos disponibles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n contexto social específ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nalizar, estructurar y organizar los contenidos disciplinares de su asig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y establecer relaciones didácticas con el entorno socioproductivo y con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más del plan de estudios, en relación con el perfil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r informaciones y dar explicaciones comprensibles y bien organ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procesos de comunicación e interacción con profesores y estudiante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sarrollo de su quehacer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tilizar nuevas tecnologías de la información y la comunicación para la ob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 información relacionada con su formación profesional, para complementa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reforzar el papel de la comunicación en su ejercicio docente y posibilitar nue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odalidades de enseñanza-aprendiz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0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"/>
          <p:cNvSpPr/>
          <p:nvPr/>
        </p:nvSpPr>
        <p:spPr>
          <a:xfrm>
            <a:off x="372600" y="1065960"/>
            <a:ext cx="8678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iseñar estrategias y organizar las actividades didácticas en distintos e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ara la formación y desarrollo de competencias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ordinar, asesorar, guiar y acompañar el proceso de formación persona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rofesional de los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iseñar, aplicar y validar instrumentos, técnicas y estrategias para evalua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retroalimentar el proceso de enseñanza aprendizaje para la formación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sarrollo de competencias profesionales.</a:t>
            </a:r>
            <a:r>
              <a:rPr b="0" i="1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nalizar y reflexionar el quehacer docente como actividad profesional, implic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spectos éticos, actitudinales y  sociales, así como factores  y elemento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ntervienen en los procesos form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rabajar en equipo, identificándose consigo mismo, con su formación profesio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n su quehacer docente, con sus estudiantes, con su academia, co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 la institución para participar en el proyect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12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538920" y="1573200"/>
            <a:ext cx="8142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stas competencias parten de una visión integral, actual y a futu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l quehacer docente, forman parte de una actividad complej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 separa para poder  identificarla a partir de sus componentes; per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que en una práctica concreta todos los aspectos mencionados so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ma y la urdimbre,  valga la metáfora, multifacética y rica en ma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que sólo la creatividad,  la actitud responsable y el compromiso co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stitución, con la sociedad, los estudiantes, la labor docente y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objetivos institucionales podrán cristaliza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nviene recordar que la eficacia y la ejecución de las 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puestas  no son exclusivas del profesor, sino que son compart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or la institución en su conj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19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179280" y="1285200"/>
            <a:ext cx="41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mpetencias genéricas doc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la par del desarrollo de las competencias docentes, el sustrato necesario para el desarrollo de tales competencias está en el desarrollo de competencias genéricas que se constituyen en medio y fin; en medio, en tanto hacen posible la formación y desarrollo de competencias docentes; y en fin, porque estas competencias forman parte del perfil integral de dichas competencias doc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9 Rectángulo"/>
          <p:cNvSpPr/>
          <p:nvPr/>
        </p:nvSpPr>
        <p:spPr>
          <a:xfrm>
            <a:off x="5076720" y="2781360"/>
            <a:ext cx="3816360" cy="360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nálisis y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0 Rectángulo"/>
          <p:cNvSpPr/>
          <p:nvPr/>
        </p:nvSpPr>
        <p:spPr>
          <a:xfrm>
            <a:off x="5076720" y="3213000"/>
            <a:ext cx="3816360" cy="360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azonamiento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11 Rectángulo"/>
          <p:cNvSpPr/>
          <p:nvPr/>
        </p:nvSpPr>
        <p:spPr>
          <a:xfrm>
            <a:off x="5076720" y="3645000"/>
            <a:ext cx="3816360" cy="360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unicación oral y 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12 Rectángulo"/>
          <p:cNvSpPr/>
          <p:nvPr/>
        </p:nvSpPr>
        <p:spPr>
          <a:xfrm>
            <a:off x="5076720" y="4076640"/>
            <a:ext cx="3816360" cy="360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3 Rectángulo"/>
          <p:cNvSpPr/>
          <p:nvPr/>
        </p:nvSpPr>
        <p:spPr>
          <a:xfrm>
            <a:off x="5076720" y="4508640"/>
            <a:ext cx="3816360" cy="360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solución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14 Rectángulo"/>
          <p:cNvSpPr/>
          <p:nvPr/>
        </p:nvSpPr>
        <p:spPr>
          <a:xfrm>
            <a:off x="5076720" y="4941720"/>
            <a:ext cx="3816360" cy="35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15 Rectángulo"/>
          <p:cNvSpPr/>
          <p:nvPr/>
        </p:nvSpPr>
        <p:spPr>
          <a:xfrm>
            <a:off x="5076720" y="5373720"/>
            <a:ext cx="3816360" cy="35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licación de 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33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3059280" y="1341360"/>
            <a:ext cx="56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información, 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y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3059280" y="2062080"/>
            <a:ext cx="56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planeación did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059280" y="2854440"/>
            <a:ext cx="56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búsqueda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060720" y="3691080"/>
            <a:ext cx="56865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00"/>
                </a:solidFill>
                <a:latin typeface="Arial"/>
              </a:rPr>
              <a:t>Actividades de  interacción, y          producción académica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3062160" y="4437000"/>
            <a:ext cx="56865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formación y 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3059280" y="5157720"/>
            <a:ext cx="568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análisis e innov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217440" y="1268280"/>
            <a:ext cx="1873440" cy="1167120"/>
          </a:xfrm>
          <a:prstGeom prst="rect">
            <a:avLst/>
          </a:prstGeom>
          <a:blipFill rotWithShape="0">
            <a:blip r:embed="rId5">
              <a:alphaModFix amt="5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Segu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108000" y="2997360"/>
            <a:ext cx="2663640" cy="1871640"/>
          </a:xfrm>
          <a:prstGeom prst="rect">
            <a:avLst/>
          </a:prstGeom>
          <a:blipFill rotWithShape="0">
            <a:blip r:embed="rId6">
              <a:alphaModFix amt="54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struc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y desarrollo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Vida acad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AutoShape 12"/>
          <p:cNvCxnSpPr>
            <a:stCxn id="641" idx="2"/>
            <a:endCxn id="642" idx="0"/>
          </p:cNvCxnSpPr>
          <p:nvPr/>
        </p:nvCxnSpPr>
        <p:spPr>
          <a:xfrm flipH="1" rot="16200000">
            <a:off x="1015920" y="2572920"/>
            <a:ext cx="562680" cy="28656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48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3059280" y="1341360"/>
            <a:ext cx="56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información, 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y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3059280" y="2062080"/>
            <a:ext cx="56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planeación did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3059280" y="2854440"/>
            <a:ext cx="56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búsqueda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3060720" y="3691080"/>
            <a:ext cx="56865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00"/>
                </a:solidFill>
                <a:latin typeface="Arial"/>
              </a:rPr>
              <a:t>Actividades de  interacción, y          producción académica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3062160" y="4437000"/>
            <a:ext cx="56865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formación y 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3059280" y="5157720"/>
            <a:ext cx="568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ctividades de análisis e innov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217440" y="1268280"/>
            <a:ext cx="1873440" cy="1167120"/>
          </a:xfrm>
          <a:prstGeom prst="rect">
            <a:avLst/>
          </a:prstGeom>
          <a:blipFill rotWithShape="0">
            <a:blip r:embed="rId5">
              <a:alphaModFix amt="58000"/>
            </a:blip>
            <a:srcRect/>
            <a:stretch/>
          </a:blip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Segu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108000" y="2997360"/>
            <a:ext cx="2663640" cy="1871640"/>
          </a:xfrm>
          <a:prstGeom prst="rect">
            <a:avLst/>
          </a:prstGeom>
          <a:blipFill rotWithShape="0">
            <a:blip r:embed="rId6">
              <a:alphaModFix amt="54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Form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AutoShape 12"/>
          <p:cNvCxnSpPr>
            <a:stCxn id="656" idx="2"/>
            <a:endCxn id="657" idx="0"/>
          </p:cNvCxnSpPr>
          <p:nvPr/>
        </p:nvCxnSpPr>
        <p:spPr>
          <a:xfrm flipH="1" rot="16200000">
            <a:off x="1015920" y="2572920"/>
            <a:ext cx="562680" cy="28656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59" name="17 Flecha derecha"/>
          <p:cNvSpPr/>
          <p:nvPr/>
        </p:nvSpPr>
        <p:spPr>
          <a:xfrm>
            <a:off x="8388360" y="6308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9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9640" y="2205000"/>
            <a:ext cx="6048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00"/>
                </a:solidFill>
                <a:latin typeface="Times New Roman"/>
              </a:rPr>
              <a:t>Mucha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MX" sz="8000" spc="-1" strike="noStrike">
                <a:solidFill>
                  <a:srgbClr val="ffff00"/>
                </a:solidFill>
                <a:latin typeface="Times New Roman"/>
              </a:rPr>
              <a:t>Gracias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64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9 Rectángulo"/>
          <p:cNvSpPr/>
          <p:nvPr/>
        </p:nvSpPr>
        <p:spPr>
          <a:xfrm>
            <a:off x="2411280" y="2455920"/>
            <a:ext cx="639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análisis constituye el proceso intelectual mediante el cual es posible separar el todo en sus componentes elementales; en tanto, la síntesis consiste en el procedimiento inverso que permite la construcción de un todo a partir de sus diferentes integra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10 Rectángulo"/>
          <p:cNvSpPr/>
          <p:nvPr/>
        </p:nvSpPr>
        <p:spPr>
          <a:xfrm>
            <a:off x="2411280" y="4184640"/>
            <a:ext cx="63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profesor desarrolla la capacidad para tomar decisiones sobre cómo hacer la descomposición o la composición de procesos complejos; esto es relevante, ya que en este proceso intelectual están implicados aspectos como la planificación de una estrate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11 Rectángulo"/>
          <p:cNvSpPr/>
          <p:nvPr/>
        </p:nvSpPr>
        <p:spPr>
          <a:xfrm>
            <a:off x="407160" y="14130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nálisis y sínte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10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74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872640" y="3365640"/>
            <a:ext cx="800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 una competencia compleja en la que intervienen capacidades cogniti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y componentes de motivación y de actitud. El pensamiento crítico compr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capacidades que incluyen el pensamiento independi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a actitud crítica frente al conocimiento en espera de que se den su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razones para apoyarlo y la capacidad para evaluar y sopesar la importa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 los datos y de las evidencias para emitir juicios razonados y to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isiones consecu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9 Rectángulo"/>
          <p:cNvSpPr/>
          <p:nvPr/>
        </p:nvSpPr>
        <p:spPr>
          <a:xfrm>
            <a:off x="841680" y="1557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Razonamiento crít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9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83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4080" y="3939120"/>
            <a:ext cx="807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pacidades lingüísticas básicas que facilitan la consecución de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bjetivos académicos, ya que se encuentran en la base de numero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rocesos de aprendizaje. El proceso que subyace a una buena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 inicia mediante una planificación intelectual que implican: generar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comunicar, organizarlas y evaluar la mejor manera de comunicar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9 Rectángulo"/>
          <p:cNvSpPr/>
          <p:nvPr/>
        </p:nvSpPr>
        <p:spPr>
          <a:xfrm>
            <a:off x="846000" y="17002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municación oral y escri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9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692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732960" y="3294360"/>
            <a:ext cx="80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a incorporación de tecnologías de información y comunicación en el ámb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ducativo plantea la necesidad de que profesores y estudiantes requiera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abilidades básicas en el manejo de estas; pero, no es suficiente con 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abilidad, en la sociedad de la información se requiere, además, la 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 gestionar la información. Capacidad que requiere, a su vez, saber bus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a información en diversas fuentes y lo que es más importante, sa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leccionarla. Además, dicha información debe poder ser almace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y recupe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9 Rectángulo"/>
          <p:cNvSpPr/>
          <p:nvPr/>
        </p:nvSpPr>
        <p:spPr>
          <a:xfrm>
            <a:off x="701280" y="17002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Gestión de la inform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9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01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274320" y="2648520"/>
            <a:ext cx="850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n problema, en cualquier ámbito profesional, constituye una situación inc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que provoca la necesidad de encontrar una solución; para resolver un proble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 deben detectar los elementos relevantes de este; el contexto en el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resenta y encontrar los pasos a seguir para solucionarlo; tanto, si exist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rocedimiento específico en una disciplina en particular; como, si simple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 aplica el conocimiento y la capacidad crítica y lógica. El ámbito educativo y,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articular, la práctica docente, se constituyen en espacios privilegiados para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nálisis y la solución de problemas inherentes al proces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señanza-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9 Rectángulo"/>
          <p:cNvSpPr/>
          <p:nvPr/>
        </p:nvSpPr>
        <p:spPr>
          <a:xfrm>
            <a:off x="558000" y="162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Resolución de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9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10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858240" y="3794760"/>
            <a:ext cx="797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 trata de la capacidad para realizar un juicio selectivo ordenado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egir  una o varias alternativas de entre las posibles. Para ello, es prec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ener  el criterio suficiente para saber qué es una buena elección, atend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l número de alternativas, a las características de cada una de ellas y a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nfluencia en el resultado fi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9 Rectángulo"/>
          <p:cNvSpPr/>
          <p:nvPr/>
        </p:nvSpPr>
        <p:spPr>
          <a:xfrm>
            <a:off x="1044360" y="20606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9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19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802080" y="4080960"/>
            <a:ext cx="792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ara aplicar los conocimientos adquiridos, es preciso ejecutar proces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encia; esto es, utilizar los conocimientos adquiridos en una sit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para realizar una tarea nueva. Se consigue, así, utilizar los conoc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eóricos adquiridos a situaciones y problemas de la vida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9 Rectángulo"/>
          <p:cNvSpPr/>
          <p:nvPr/>
        </p:nvSpPr>
        <p:spPr>
          <a:xfrm>
            <a:off x="734040" y="206064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plicar los 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9 Flecha derecha"/>
          <p:cNvSpPr/>
          <p:nvPr/>
        </p:nvSpPr>
        <p:spPr>
          <a:xfrm>
            <a:off x="8604360" y="6381720"/>
            <a:ext cx="288720" cy="2872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28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9 CuadroTexto"/>
          <p:cNvSpPr/>
          <p:nvPr/>
        </p:nvSpPr>
        <p:spPr>
          <a:xfrm>
            <a:off x="2286000" y="2000160"/>
            <a:ext cx="60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ubdirectores@gmai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Clave : doc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3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41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86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79280" y="1197000"/>
            <a:ext cx="3961080" cy="381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El contexto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140360" y="1197000"/>
            <a:ext cx="475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Globalización de las actividad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(económicas, políticas, sociales y cultural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140360" y="3141720"/>
            <a:ext cx="475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arrollo de nuevas tecnologí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información y la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4140360" y="2495520"/>
            <a:ext cx="475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celerado desarrollo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140360" y="1855800"/>
            <a:ext cx="475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ambios drásticos en  las activ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conómicas y produc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95280" y="5300640"/>
            <a:ext cx="856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Todos estos cambios deben ser analizados y tomados en cuenta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s instituciones de educación superior para enfrentarlos y dar una 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140360" y="3790800"/>
            <a:ext cx="4752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stitución de la sociedad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formación y 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4140360" y="4437000"/>
            <a:ext cx="4752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cesos de integración regional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ámbito de la educación superi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47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53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59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6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771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100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179280" y="1052640"/>
            <a:ext cx="7345440" cy="86508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os retos educativos en la sociedad basada en la información, a manera  de ejempl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Rectángulo"/>
          <p:cNvSpPr/>
          <p:nvPr/>
        </p:nvSpPr>
        <p:spPr>
          <a:xfrm>
            <a:off x="2411280" y="1916280"/>
            <a:ext cx="6877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n los últimos 20  años se ha producido más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Que en los 5,000 años ant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Rectángulo"/>
          <p:cNvSpPr/>
          <p:nvPr/>
        </p:nvSpPr>
        <p:spPr>
          <a:xfrm>
            <a:off x="2411280" y="2779560"/>
            <a:ext cx="687708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 información se duplica cada 4 años y cada vez con 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eleridad, y cada vez má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 Rectángulo"/>
          <p:cNvSpPr/>
          <p:nvPr/>
        </p:nvSpPr>
        <p:spPr>
          <a:xfrm>
            <a:off x="2411280" y="4508640"/>
            <a:ext cx="68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l 80% de los nuevos empleos requiere habilidades sofisticadas para la búsqueda, organización y tratamiento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3 Rectángulo"/>
          <p:cNvSpPr/>
          <p:nvPr/>
        </p:nvSpPr>
        <p:spPr>
          <a:xfrm>
            <a:off x="2411280" y="5300640"/>
            <a:ext cx="687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os empleos que implican el uso de las nuevas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on mejor remunerados de los que no los emp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4 Rectángulo"/>
          <p:cNvSpPr/>
          <p:nvPr/>
        </p:nvSpPr>
        <p:spPr>
          <a:xfrm>
            <a:off x="2411280" y="3645000"/>
            <a:ext cx="6877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Hasta hace 40 años la información que usaba el ser humano en su vida cotidiana permanecía igual por varias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5 Flecha derecha">
            <a:hlinkClick r:id="rId5" action="ppaction://hlinksldjump"/>
          </p:cNvPr>
          <p:cNvSpPr/>
          <p:nvPr/>
        </p:nvSpPr>
        <p:spPr>
          <a:xfrm>
            <a:off x="8532720" y="638172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113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629080" y="1341360"/>
            <a:ext cx="4103640" cy="93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Tendencias educativa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la formaci</a:t>
            </a: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ó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3120" y="3284640"/>
            <a:ext cx="26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Aprender a colab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869080" y="328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Aprender a apr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042920" y="42228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Aplicar 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362560" y="422100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Resolver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203640" y="5300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Gestión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9"/>
          <p:cNvCxnSpPr>
            <a:stCxn id="115" idx="2"/>
            <a:endCxn id="116" idx="0"/>
          </p:cNvCxnSpPr>
          <p:nvPr/>
        </p:nvCxnSpPr>
        <p:spPr>
          <a:xfrm rot="5400000">
            <a:off x="2920320" y="1524240"/>
            <a:ext cx="1008720" cy="2513520"/>
          </a:xfrm>
          <a:prstGeom prst="bentConnector3">
            <a:avLst>
              <a:gd name="adj1" fmla="val 4991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2" name="AutoShape 10"/>
          <p:cNvCxnSpPr>
            <a:stCxn id="115" idx="2"/>
            <a:endCxn id="117" idx="0"/>
          </p:cNvCxnSpPr>
          <p:nvPr/>
        </p:nvCxnSpPr>
        <p:spPr>
          <a:xfrm flipH="1" rot="16200000">
            <a:off x="5436360" y="1520640"/>
            <a:ext cx="1008720" cy="2520360"/>
          </a:xfrm>
          <a:prstGeom prst="bentConnector3">
            <a:avLst>
              <a:gd name="adj1" fmla="val 4991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3" name="AutoShape 11"/>
          <p:cNvCxnSpPr>
            <a:stCxn id="115" idx="2"/>
            <a:endCxn id="118" idx="3"/>
          </p:cNvCxnSpPr>
          <p:nvPr/>
        </p:nvCxnSpPr>
        <p:spPr>
          <a:xfrm rot="5400000">
            <a:off x="3263040" y="3008160"/>
            <a:ext cx="2149920" cy="686520"/>
          </a:xfrm>
          <a:prstGeom prst="bentConnector2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4" name="AutoShape 12"/>
          <p:cNvCxnSpPr>
            <a:stCxn id="115" idx="2"/>
            <a:endCxn id="119" idx="1"/>
          </p:cNvCxnSpPr>
          <p:nvPr/>
        </p:nvCxnSpPr>
        <p:spPr>
          <a:xfrm flipH="1" rot="16200000">
            <a:off x="3948120" y="3009600"/>
            <a:ext cx="2148480" cy="681840"/>
          </a:xfrm>
          <a:prstGeom prst="bentConnector2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25" name="AutoShape 13"/>
          <p:cNvCxnSpPr>
            <a:stCxn id="115" idx="2"/>
            <a:endCxn id="120" idx="0"/>
          </p:cNvCxnSpPr>
          <p:nvPr/>
        </p:nvCxnSpPr>
        <p:spPr>
          <a:xfrm rot="5400000">
            <a:off x="3168000" y="3787920"/>
            <a:ext cx="3024720" cy="2160"/>
          </a:xfrm>
          <a:prstGeom prst="bentConnector3">
            <a:avLst>
              <a:gd name="adj1" fmla="val 49970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130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804000" y="3719520"/>
            <a:ext cx="18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995640" y="4869000"/>
            <a:ext cx="18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995640" y="3741840"/>
            <a:ext cx="180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995640" y="2708280"/>
            <a:ext cx="18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997440" y="2709720"/>
            <a:ext cx="180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men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997440" y="3755880"/>
            <a:ext cx="180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m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997440" y="4870440"/>
            <a:ext cx="180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imen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isté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55640" y="5302080"/>
            <a:ext cx="244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755640" y="451152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755640" y="38624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755640" y="321480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755640" y="227808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755640" y="2276640"/>
            <a:ext cx="2449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render a busc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organizar e interpre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755640" y="3214800"/>
            <a:ext cx="244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render 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755640" y="4510080"/>
            <a:ext cx="244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render a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755640" y="5302080"/>
            <a:ext cx="244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render a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755640" y="3863880"/>
            <a:ext cx="24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prender a Colab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2771640" y="1123920"/>
            <a:ext cx="5977080" cy="649440"/>
            <a:chOff x="2771640" y="1123920"/>
            <a:chExt cx="5977080" cy="649440"/>
          </a:xfrm>
        </p:grpSpPr>
        <p:sp>
          <p:nvSpPr>
            <p:cNvPr id="150" name="Rectangle 24"/>
            <p:cNvSpPr/>
            <p:nvPr/>
          </p:nvSpPr>
          <p:spPr>
            <a:xfrm>
              <a:off x="2771640" y="1125000"/>
              <a:ext cx="5977080" cy="64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5"/>
            <p:cNvSpPr/>
            <p:nvPr/>
          </p:nvSpPr>
          <p:spPr>
            <a:xfrm>
              <a:off x="2771640" y="1123920"/>
              <a:ext cx="5977080" cy="6494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00"/>
                  </a:solidFill>
                  <a:latin typeface="Arial Narrow"/>
                </a:rPr>
                <a:t>     </a:t>
              </a:r>
              <a:r>
                <a:rPr b="0" lang="es-MX" sz="2800" spc="-1" strike="noStrike">
                  <a:solidFill>
                    <a:srgbClr val="ffff00"/>
                  </a:solidFill>
                  <a:latin typeface="Arial Narrow"/>
                </a:rPr>
                <a:t>Tendencias en la formaci</a:t>
              </a:r>
              <a:r>
                <a:rPr b="0" lang="es-ES" sz="2800" spc="-1" strike="noStrike">
                  <a:solidFill>
                    <a:srgbClr val="ffff00"/>
                  </a:solidFill>
                  <a:latin typeface="Arial Narrow"/>
                </a:rPr>
                <a:t>ó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 Narrow"/>
                </a:rPr>
                <a:t>n</a:t>
              </a:r>
              <a:r>
                <a:rPr b="0" lang="es-MX" sz="2800" spc="-1" strike="noStrike">
                  <a:solidFill>
                    <a:srgbClr val="ffff00"/>
                  </a:solidFill>
                  <a:latin typeface="Arial Narrow"/>
                </a:rPr>
                <a:t> profes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2" name="AutoShape 26"/>
          <p:cNvCxnSpPr>
            <a:stCxn id="144" idx="3"/>
            <a:endCxn id="136" idx="1"/>
          </p:cNvCxnSpPr>
          <p:nvPr/>
        </p:nvCxnSpPr>
        <p:spPr>
          <a:xfrm>
            <a:off x="3204720" y="2709360"/>
            <a:ext cx="793080" cy="397800"/>
          </a:xfrm>
          <a:prstGeom prst="bentConnector3">
            <a:avLst>
              <a:gd name="adj1" fmla="val 49863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3" name="AutoShape 27"/>
          <p:cNvCxnSpPr>
            <a:stCxn id="145" idx="3"/>
            <a:endCxn id="136" idx="1"/>
          </p:cNvCxnSpPr>
          <p:nvPr/>
        </p:nvCxnSpPr>
        <p:spPr>
          <a:xfrm flipV="1">
            <a:off x="3204720" y="3106440"/>
            <a:ext cx="793080" cy="396000"/>
          </a:xfrm>
          <a:prstGeom prst="bentConnector3">
            <a:avLst>
              <a:gd name="adj1" fmla="val 49863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4" name="AutoShape 28"/>
          <p:cNvCxnSpPr>
            <a:stCxn id="148" idx="3"/>
            <a:endCxn id="137" idx="1"/>
          </p:cNvCxnSpPr>
          <p:nvPr/>
        </p:nvCxnSpPr>
        <p:spPr>
          <a:xfrm>
            <a:off x="3204720" y="4152600"/>
            <a:ext cx="79308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5" name="AutoShape 29"/>
          <p:cNvCxnSpPr>
            <a:stCxn id="146" idx="3"/>
            <a:endCxn id="138" idx="1"/>
          </p:cNvCxnSpPr>
          <p:nvPr/>
        </p:nvCxnSpPr>
        <p:spPr>
          <a:xfrm>
            <a:off x="3204720" y="4870440"/>
            <a:ext cx="793080" cy="397440"/>
          </a:xfrm>
          <a:prstGeom prst="bentConnector3">
            <a:avLst>
              <a:gd name="adj1" fmla="val 49863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30"/>
          <p:cNvCxnSpPr>
            <a:stCxn id="147" idx="3"/>
            <a:endCxn id="138" idx="1"/>
          </p:cNvCxnSpPr>
          <p:nvPr/>
        </p:nvCxnSpPr>
        <p:spPr>
          <a:xfrm flipV="1">
            <a:off x="3204720" y="5266440"/>
            <a:ext cx="793080" cy="359640"/>
          </a:xfrm>
          <a:prstGeom prst="bentConnector3">
            <a:avLst>
              <a:gd name="adj1" fmla="val 49863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Rectangle 31"/>
          <p:cNvSpPr/>
          <p:nvPr/>
        </p:nvSpPr>
        <p:spPr>
          <a:xfrm>
            <a:off x="6805440" y="3719520"/>
            <a:ext cx="1798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2"/>
          <p:cNvCxnSpPr>
            <a:stCxn id="136" idx="3"/>
            <a:endCxn id="157" idx="1"/>
          </p:cNvCxnSpPr>
          <p:nvPr/>
        </p:nvCxnSpPr>
        <p:spPr>
          <a:xfrm>
            <a:off x="5797440" y="3106440"/>
            <a:ext cx="1008720" cy="1045080"/>
          </a:xfrm>
          <a:prstGeom prst="bentConnector3">
            <a:avLst>
              <a:gd name="adj1" fmla="val 4991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9" name="AutoShape 33"/>
          <p:cNvCxnSpPr>
            <a:stCxn id="137" idx="3"/>
            <a:endCxn id="157" idx="1"/>
          </p:cNvCxnSpPr>
          <p:nvPr/>
        </p:nvCxnSpPr>
        <p:spPr>
          <a:xfrm flipV="1">
            <a:off x="5797440" y="4150440"/>
            <a:ext cx="1008720" cy="2520"/>
          </a:xfrm>
          <a:prstGeom prst="bentConnector3">
            <a:avLst>
              <a:gd name="adj1" fmla="val 4991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0" name="AutoShape 34"/>
          <p:cNvCxnSpPr>
            <a:stCxn id="138" idx="3"/>
            <a:endCxn id="157" idx="1"/>
          </p:cNvCxnSpPr>
          <p:nvPr/>
        </p:nvCxnSpPr>
        <p:spPr>
          <a:xfrm flipV="1">
            <a:off x="5797440" y="4150800"/>
            <a:ext cx="1008720" cy="1116720"/>
          </a:xfrm>
          <a:prstGeom prst="bentConnector3">
            <a:avLst>
              <a:gd name="adj1" fmla="val 49910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62040" cy="676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Administrador\Mis documentos\Descargas\enlaces.jpg"/>
          <p:cNvPicPr/>
          <p:nvPr/>
        </p:nvPicPr>
        <p:blipFill>
          <a:blip r:embed="rId3"/>
          <a:srcRect l="0" t="34775" r="0" b="32538"/>
          <a:stretch/>
        </p:blipFill>
        <p:spPr>
          <a:xfrm>
            <a:off x="7616880" y="81000"/>
            <a:ext cx="1428840" cy="709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0" y="6081840"/>
            <a:ext cx="9163080" cy="785520"/>
          </a:xfrm>
          <a:prstGeom prst="rect">
            <a:avLst/>
          </a:prstGeom>
          <a:ln w="0">
            <a:noFill/>
          </a:ln>
        </p:spPr>
      </p:pic>
      <p:sp>
        <p:nvSpPr>
          <p:cNvPr id="165" name="1 Marcador de título"/>
          <p:cNvSpPr/>
          <p:nvPr/>
        </p:nvSpPr>
        <p:spPr>
          <a:xfrm>
            <a:off x="1866960" y="6270480"/>
            <a:ext cx="5398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Reunión Nacional  de Subdirectores Acadé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2f2f2"/>
                </a:solidFill>
                <a:latin typeface="Arial"/>
                <a:ea typeface="Arial"/>
              </a:rPr>
              <a:t>Instituto Tecnológico de Nuevo León,  del 5 al 7 de julio de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Marcador de título"/>
          <p:cNvSpPr/>
          <p:nvPr/>
        </p:nvSpPr>
        <p:spPr>
          <a:xfrm>
            <a:off x="1857240" y="142920"/>
            <a:ext cx="5399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EurekaSans-Light"/>
                <a:ea typeface="Arial"/>
              </a:rPr>
              <a:t>Dirección General de Educación Superior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851280" y="1125360"/>
            <a:ext cx="4968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piciar que ciertas capacidades intelec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procedimentales aparezcan y se desarro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51280" y="2133720"/>
            <a:ext cx="496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rear condiciones didácticas para q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estudiante aplique esfuerzos de ma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istemática y enfrente dificult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95280" y="1197000"/>
            <a:ext cx="2089080" cy="1944720"/>
          </a:xfrm>
          <a:prstGeom prst="rect">
            <a:avLst/>
          </a:prstGeom>
          <a:solidFill>
            <a:srgbClr val="0000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id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n 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851280" y="3141720"/>
            <a:ext cx="496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ropiciar procesos de comunicación (habl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eer y escribir), e interacción (colabor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trabajar en equip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851280" y="5157720"/>
            <a:ext cx="496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Fomentar la interacción intelectual constr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 el medio físico y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51280" y="4149720"/>
            <a:ext cx="496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Desarrollar la capacidad para planea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resolver problemas mediante el manej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conceptos, símbolos y rel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20:21:37Z</dcterms:created>
  <dc:creator>aochoa</dc:creator>
  <dc:description/>
  <dc:language>en-US</dc:language>
  <cp:lastModifiedBy>REUNION</cp:lastModifiedBy>
  <dcterms:modified xsi:type="dcterms:W3CDTF">2010-07-06T01:18:38Z</dcterms:modified>
  <cp:revision>1031</cp:revision>
  <dc:subject/>
  <dc:title>Diapositiva 1</dc:title>
</cp:coreProperties>
</file>